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5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7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8E6339-52F3-4972-9404-C9EBABF0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34E736-4735-4BFD-876B-2A4E9289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B09288-EA1A-4A1C-9E40-18C2483FD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60 N, 70-180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2 col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fferences, but not clearly by region, and largest diffs aren’t just coa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ed comparison albeit at a limited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4BFF16-15DF-485C-83C3-62EE9C4F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48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0480" y="266760"/>
            <a:ext cx="732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4948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0480" y="266760"/>
            <a:ext cx="732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84948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19520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849480"/>
            <a:ext cx="250236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266760"/>
            <a:ext cx="7327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48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212400"/>
            <a:ext cx="7327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95200"/>
            <a:ext cx="37926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480"/>
            <a:ext cx="7772400" cy="24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3320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S 2008 Annual Meeting, January  23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8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5760" y="6429240"/>
            <a:ext cx="822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5760" y="1047600"/>
            <a:ext cx="822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Noaa1"/>
          <p:cNvPicPr/>
          <p:nvPr/>
        </p:nvPicPr>
        <p:blipFill>
          <a:blip r:embed="rId2"/>
          <a:stretch/>
        </p:blipFill>
        <p:spPr>
          <a:xfrm>
            <a:off x="455760" y="114480"/>
            <a:ext cx="89532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030"/>
          <p:cNvSpPr/>
          <p:nvPr/>
        </p:nvSpPr>
        <p:spPr>
          <a:xfrm>
            <a:off x="685800" y="624060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31"/>
          <p:cNvSpPr/>
          <p:nvPr/>
        </p:nvSpPr>
        <p:spPr>
          <a:xfrm>
            <a:off x="700200" y="126360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33" descr="Noaa1"/>
          <p:cNvPicPr/>
          <p:nvPr/>
        </p:nvPicPr>
        <p:blipFill>
          <a:blip r:embed="rId2"/>
          <a:stretch/>
        </p:blipFill>
        <p:spPr>
          <a:xfrm>
            <a:off x="685800" y="244440"/>
            <a:ext cx="895320" cy="87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35"/>
          <p:cNvSpPr/>
          <p:nvPr/>
        </p:nvSpPr>
        <p:spPr>
          <a:xfrm>
            <a:off x="3726000" y="6227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36"/>
          <p:cNvSpPr/>
          <p:nvPr/>
        </p:nvSpPr>
        <p:spPr>
          <a:xfrm>
            <a:off x="608040" y="62197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7"/>
          <p:cNvSpPr/>
          <p:nvPr/>
        </p:nvSpPr>
        <p:spPr>
          <a:xfrm>
            <a:off x="455760" y="6429240"/>
            <a:ext cx="822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5760" y="1047600"/>
            <a:ext cx="822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Noaa1"/>
          <p:cNvPicPr/>
          <p:nvPr/>
        </p:nvPicPr>
        <p:blipFill>
          <a:blip r:embed="rId2"/>
          <a:stretch/>
        </p:blipFill>
        <p:spPr>
          <a:xfrm>
            <a:off x="455760" y="114480"/>
            <a:ext cx="895320" cy="873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3"/>
          </p:nvPr>
        </p:nvSpPr>
        <p:spPr>
          <a:xfrm>
            <a:off x="283320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4"/>
          </p:nvPr>
        </p:nvSpPr>
        <p:spPr>
          <a:xfrm>
            <a:off x="54108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162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ntegrated Water Vapor Retrievals from SSM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09240" y="3225960"/>
            <a:ext cx="666756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y A. 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AA ESRL, Physical Science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contributions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.-H. Kuo,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. Gutman,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the AVAP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ional Center for Atmospheric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AA ESRL, Global System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WV Product Compari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ate Placeholder 2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16836" r="0" b="16610"/>
          <a:stretch/>
        </p:blipFill>
        <p:spPr>
          <a:xfrm>
            <a:off x="168120" y="1741320"/>
            <a:ext cx="8807760" cy="43959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654120" y="1371600"/>
            <a:ext cx="38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(MI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5029200" y="1339920"/>
            <a:ext cx="38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(Wick &amp; Went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opsonde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acific flights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3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fic and Gulf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 from HS3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2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1160" y="3560760"/>
            <a:ext cx="354960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8" name="Picture 6" descr="wispar_emblem.png"/>
          <p:cNvPicPr/>
          <p:nvPr/>
        </p:nvPicPr>
        <p:blipFill>
          <a:blip r:embed="rId2"/>
          <a:stretch/>
        </p:blipFill>
        <p:spPr>
          <a:xfrm>
            <a:off x="2722680" y="3633840"/>
            <a:ext cx="1038240" cy="1039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drops_amsre_1300z.png"/>
          <p:cNvPicPr/>
          <p:nvPr/>
        </p:nvPicPr>
        <p:blipFill>
          <a:blip r:embed="rId3"/>
          <a:srcRect l="24000" t="0" r="43596" b="0"/>
          <a:stretch/>
        </p:blipFill>
        <p:spPr>
          <a:xfrm>
            <a:off x="6469200" y="1117440"/>
            <a:ext cx="2320920" cy="5372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Fig04_2004-02-16_SSMI+Streamflow_prelim"/>
          <p:cNvPicPr/>
          <p:nvPr/>
        </p:nvPicPr>
        <p:blipFill>
          <a:blip r:embed="rId4"/>
          <a:srcRect l="850" t="90785" r="1951" b="0"/>
          <a:stretch/>
        </p:blipFill>
        <p:spPr>
          <a:xfrm>
            <a:off x="4925880" y="6410160"/>
            <a:ext cx="352584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9"/>
          <p:cNvSpPr/>
          <p:nvPr/>
        </p:nvSpPr>
        <p:spPr>
          <a:xfrm>
            <a:off x="4971960" y="1281240"/>
            <a:ext cx="15861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MSR-E IWV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~1300 U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p 9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drops_f17_0200z_AR_nbound.png"/>
          <p:cNvPicPr/>
          <p:nvPr/>
        </p:nvPicPr>
        <p:blipFill>
          <a:blip r:embed="rId5"/>
          <a:srcRect l="42680" t="22178" r="18449" b="23491"/>
          <a:stretch/>
        </p:blipFill>
        <p:spPr>
          <a:xfrm>
            <a:off x="3922560" y="3813120"/>
            <a:ext cx="2503800" cy="26240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9"/>
          <p:cNvSpPr/>
          <p:nvPr/>
        </p:nvSpPr>
        <p:spPr>
          <a:xfrm>
            <a:off x="3967200" y="3544920"/>
            <a:ext cx="2503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17 SSMIS March 10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opsonde IWV Co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matches with swath data within 4 hours, 3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lear dependence on satellite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98360" y="2284560"/>
            <a:ext cx="3943440" cy="39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4281480" y="2509920"/>
          <a:ext cx="4524480" cy="1484280"/>
        </p:xfrm>
        <a:graphic>
          <a:graphicData uri="http://schemas.openxmlformats.org/drawingml/2006/table">
            <a:tbl>
              <a:tblPr/>
              <a:tblGrid>
                <a:gridCol w="1508040"/>
                <a:gridCol w="1508040"/>
                <a:gridCol w="1508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elli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 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 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 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 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c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W Compari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spsonde comparison shows little systematic dependence on CLW content for existing co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461880" y="2341440"/>
            <a:ext cx="3943440" cy="394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4714920" y="2341440"/>
            <a:ext cx="3943440" cy="3943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1120680" y="21574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th M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5357880" y="21574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M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 to 1-hour Sepa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195200"/>
            <a:ext cx="394488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collocations but very goo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differences related to temporal off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confidence in both satellite and dropsond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4740120" y="13590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6916680" y="3997440"/>
            <a:ext cx="165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ias = 0.03 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MS = 0.24 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3 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roducts enable detailed comparison of IWV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agreement is ver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IC comparisons highlight retrieval algorithm differences dependent on cloud liquid water, precipitation, 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with GPS Met demonstrate good performance of research algorithms with SS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sonde data shows very tight agreement with no discernible dependence on 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ward to additional drops in storm environment to further explore dependence on CLW an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a Sli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1195200"/>
            <a:ext cx="7772400" cy="5081400"/>
          </a:xfrm>
          <a:prstGeom prst="rect">
            <a:avLst/>
          </a:prstGeom>
          <a:ln w="0">
            <a:noFill/>
          </a:ln>
        </p:spPr>
      </p:pic>
      <p:sp>
        <p:nvSpPr>
          <p:cNvPr id="220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21160" y="3494160"/>
            <a:ext cx="313704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d difference relative to local gradients for different effective SSM/I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dependence is 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confirmation of effective COSMIC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bias_anom_gfs_talk2"/>
          <p:cNvPicPr/>
          <p:nvPr/>
        </p:nvPicPr>
        <p:blipFill>
          <a:blip r:embed="rId1"/>
          <a:stretch/>
        </p:blipFill>
        <p:spPr>
          <a:xfrm>
            <a:off x="533520" y="1181160"/>
            <a:ext cx="4397400" cy="512928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15"/>
          <p:cNvGrpSpPr/>
          <p:nvPr/>
        </p:nvGrpSpPr>
        <p:grpSpPr>
          <a:xfrm>
            <a:off x="6134040" y="1295280"/>
            <a:ext cx="1587600" cy="1575000"/>
            <a:chOff x="6134040" y="1295280"/>
            <a:chExt cx="1587600" cy="1575000"/>
          </a:xfrm>
        </p:grpSpPr>
        <p:sp>
          <p:nvSpPr>
            <p:cNvPr id="228" name="Rectangle 6"/>
            <p:cNvSpPr/>
            <p:nvPr/>
          </p:nvSpPr>
          <p:spPr>
            <a:xfrm>
              <a:off x="6134040" y="1295280"/>
              <a:ext cx="1587600" cy="157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794640" y="193032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2"/>
          <p:cNvGrpSpPr/>
          <p:nvPr/>
        </p:nvGrpSpPr>
        <p:grpSpPr>
          <a:xfrm>
            <a:off x="6108480" y="2857680"/>
            <a:ext cx="1613160" cy="276480"/>
            <a:chOff x="6108480" y="2857680"/>
            <a:chExt cx="1613160" cy="276480"/>
          </a:xfrm>
        </p:grpSpPr>
        <p:sp>
          <p:nvSpPr>
            <p:cNvPr id="231" name="Line 9"/>
            <p:cNvSpPr/>
            <p:nvPr/>
          </p:nvSpPr>
          <p:spPr>
            <a:xfrm>
              <a:off x="7251840" y="29970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 flipH="1">
              <a:off x="6108480" y="29970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1"/>
            <p:cNvSpPr/>
            <p:nvPr/>
          </p:nvSpPr>
          <p:spPr>
            <a:xfrm>
              <a:off x="6553080" y="28576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k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3"/>
          <p:cNvSpPr/>
          <p:nvPr/>
        </p:nvSpPr>
        <p:spPr>
          <a:xfrm>
            <a:off x="6959520" y="1447920"/>
            <a:ext cx="18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ive SSM/I S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7035840" y="1752480"/>
            <a:ext cx="3556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S 2008 Annual Meeting, January  23,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bias_clw_gfs_talk3_rel"/>
          <p:cNvPicPr/>
          <p:nvPr/>
        </p:nvPicPr>
        <p:blipFill>
          <a:blip r:embed="rId1"/>
          <a:stretch/>
        </p:blipFill>
        <p:spPr>
          <a:xfrm>
            <a:off x="4775040" y="1460520"/>
            <a:ext cx="4114800" cy="4800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bias_lat_gfs_talk3_rel"/>
          <p:cNvPicPr/>
          <p:nvPr/>
        </p:nvPicPr>
        <p:blipFill>
          <a:blip r:embed="rId2"/>
          <a:stretch/>
        </p:blipFill>
        <p:spPr>
          <a:xfrm>
            <a:off x="431640" y="14731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Depend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04840" y="13334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tud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346720" y="134604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W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2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S 2008 Annual Meeting, January  23,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ce of Other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bias_clw_gfs_talk2"/>
          <p:cNvPicPr/>
          <p:nvPr/>
        </p:nvPicPr>
        <p:blipFill>
          <a:blip r:embed="rId1"/>
          <a:stretch/>
        </p:blipFill>
        <p:spPr>
          <a:xfrm>
            <a:off x="343080" y="1473120"/>
            <a:ext cx="4114800" cy="480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bias_clw_gfs_talk2_2"/>
          <p:cNvPicPr/>
          <p:nvPr/>
        </p:nvPicPr>
        <p:blipFill>
          <a:blip r:embed="rId2"/>
          <a:stretch/>
        </p:blipFill>
        <p:spPr>
          <a:xfrm>
            <a:off x="4546440" y="1473120"/>
            <a:ext cx="4114800" cy="4800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bias_clw_gfs_talk2_15"/>
          <p:cNvPicPr/>
          <p:nvPr/>
        </p:nvPicPr>
        <p:blipFill>
          <a:blip r:embed="rId3"/>
          <a:stretch/>
        </p:blipFill>
        <p:spPr>
          <a:xfrm>
            <a:off x="4699080" y="14731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1028880" y="1359000"/>
            <a:ext cx="31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ve SSM/I Resolu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321160" y="13716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km Effective Re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-derived IWV a primary resource at ESRL P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satellite product validation over the oc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coastal radiosonde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s may not be representative of the open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calibration issues with S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crosstalk in satellite retrieval algorithms not fully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curacy in a storm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Met ground-based retrie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Hawk dropso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MIC IWV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95200"/>
            <a:ext cx="77724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SM/I retrieval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tz, 95 (W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üssel and Emery, 90 (S&amp;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shouse et al., 90 (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ty, 94 (P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profiles initialized with ECMWF and NCEP GFS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llary data on cloud liquid water and precipitation rate as derived from SSM/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06311_wvp"/>
          <p:cNvPicPr/>
          <p:nvPr/>
        </p:nvPicPr>
        <p:blipFill>
          <a:blip r:embed="rId1"/>
          <a:srcRect l="0" t="20329" r="0" b="20329"/>
          <a:stretch/>
        </p:blipFill>
        <p:spPr>
          <a:xfrm>
            <a:off x="5972040" y="1941480"/>
            <a:ext cx="2989440" cy="1773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197760" y="1727280"/>
            <a:ext cx="269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ember 7, 2006 12-24 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o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51008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-16 and December 8-1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cation within 1 hour and 25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lear regional pattern in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Fig1_rel"/>
          <p:cNvPicPr/>
          <p:nvPr/>
        </p:nvPicPr>
        <p:blipFill>
          <a:blip r:embed="rId1"/>
          <a:stretch/>
        </p:blipFill>
        <p:spPr>
          <a:xfrm>
            <a:off x="1054080" y="1282680"/>
            <a:ext cx="66722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M/I COSMIC IWV Dif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55840" y="1195200"/>
            <a:ext cx="265428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shown for GFS 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overall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chlüssel and Emery exhibit notabl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scatter_cosmic_gfs_talk2"/>
          <p:cNvPicPr/>
          <p:nvPr/>
        </p:nvPicPr>
        <p:blipFill>
          <a:blip r:embed="rId1"/>
          <a:stretch/>
        </p:blipFill>
        <p:spPr>
          <a:xfrm>
            <a:off x="520560" y="1168560"/>
            <a:ext cx="513720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bias_clw_gfs_talk2"/>
          <p:cNvPicPr/>
          <p:nvPr/>
        </p:nvPicPr>
        <p:blipFill>
          <a:blip r:embed="rId1"/>
          <a:stretch/>
        </p:blipFill>
        <p:spPr>
          <a:xfrm>
            <a:off x="4289400" y="142884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5013360" y="131436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 Liquid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590400" y="1376280"/>
            <a:ext cx="325944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binned as function of parameters including latitude, cloud liquid water, and effective SSM/I re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tz algorithm selected for use with SSMIS, but bias observed at high CLW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also found to be related to different effective sampling reg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-based GPS IWV Retriev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228680" y="1387440"/>
            <a:ext cx="6686640" cy="451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1238400" y="5916600"/>
            <a:ext cx="62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in collaboration with Seth Gut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20480" y="266760"/>
            <a:ext cx="732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oral Compari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2"/>
          <p:cNvSpPr/>
          <p:nvPr/>
        </p:nvSpPr>
        <p:spPr>
          <a:xfrm>
            <a:off x="2833560" y="6400800"/>
            <a:ext cx="57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S3 Science Meeting, May 8,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541440" y="6400800"/>
            <a:ext cx="17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ick et 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411200" y="1176480"/>
            <a:ext cx="6386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00:12:00Z</dcterms:created>
  <dc:creator>A.J. Gasiewski</dc:creator>
  <dc:description/>
  <dc:language>en-US</dc:language>
  <cp:lastModifiedBy>Gary</cp:lastModifiedBy>
  <dcterms:modified xsi:type="dcterms:W3CDTF">2013-05-08T01:25:50Z</dcterms:modified>
  <cp:revision>300</cp:revision>
  <dc:subject/>
  <dc:title>First Major Slide</dc:title>
</cp:coreProperties>
</file>