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6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21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37.xml" ContentType="application/vnd.openxmlformats-officedocument.theme+xml"/>
  <Override PartName="/ppt/theme/theme38.xml" ContentType="application/vnd.openxmlformats-officedocument.theme+xml"/>
  <Override PartName="/ppt/theme/theme40.xml" ContentType="application/vnd.openxmlformats-officedocument.theme+xml"/>
  <Override PartName="/ppt/theme/theme39.xml" ContentType="application/vnd.openxmlformats-officedocument.theme+xml"/>
  <Override PartName="/ppt/theme/theme41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26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1.png" ContentType="image/png"/>
  <Override PartName="/ppt/media/image6.png" ContentType="image/png"/>
  <Override PartName="/ppt/media/image3.jpeg" ContentType="image/jpeg"/>
  <Override PartName="/ppt/media/image15.png" ContentType="image/png"/>
  <Override PartName="/ppt/media/image24.wmf" ContentType="image/x-wmf"/>
  <Override PartName="/ppt/media/image23.jpeg" ContentType="image/jpeg"/>
  <Override PartName="/ppt/media/image18.jpeg" ContentType="image/jpeg"/>
  <Override PartName="/ppt/media/image21.jpeg" ContentType="image/jpeg"/>
  <Override PartName="/ppt/media/image16.png" ContentType="image/png"/>
  <Override PartName="/ppt/media/image19.png" ContentType="image/png"/>
  <Override PartName="/ppt/media/image17.png" ContentType="image/png"/>
  <Override PartName="/ppt/media/image14.png" ContentType="image/png"/>
  <Override PartName="/ppt/media/image4.wmf" ContentType="image/x-wmf"/>
  <Override PartName="/ppt/media/image5.png" ContentType="image/png"/>
  <Override PartName="/ppt/media/image10.png" ContentType="image/png"/>
  <Override PartName="/ppt/media/image25.png" ContentType="image/png"/>
  <Override PartName="/ppt/media/image2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</p:sldMasterIdLst>
  <p:notesMasterIdLst>
    <p:notesMasterId r:id="rId42"/>
  </p:notesMasterIdLst>
  <p:sldIdLst>
    <p:sldId id="256" r:id="rId43"/>
    <p:sldId id="257" r:id="rId44"/>
    <p:sldId id="258" r:id="rId45"/>
    <p:sldId id="259" r:id="rId46"/>
    <p:sldId id="260" r:id="rId47"/>
    <p:sldId id="261" r:id="rId48"/>
    <p:sldId id="262" r:id="rId49"/>
    <p:sldId id="263" r:id="rId50"/>
    <p:sldId id="264" r:id="rId51"/>
    <p:sldId id="265" r:id="rId52"/>
    <p:sldId id="266" r:id="rId53"/>
    <p:sldId id="267" r:id="rId54"/>
    <p:sldId id="268" r:id="rId55"/>
    <p:sldId id="269" r:id="rId56"/>
    <p:sldId id="270" r:id="rId57"/>
    <p:sldId id="271" r:id="rId58"/>
    <p:sldId id="272" r:id="rId59"/>
    <p:sldId id="273" r:id="rId60"/>
    <p:sldId id="274" r:id="rId61"/>
    <p:sldId id="275" r:id="rId62"/>
    <p:sldId id="276" r:id="rId63"/>
    <p:sldId id="277" r:id="rId64"/>
    <p:sldId id="278" r:id="rId65"/>
    <p:sldId id="279" r:id="rId66"/>
    <p:sldId id="280" r:id="rId6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notesMaster" Target="notesMasters/notesMaster1.xml"/><Relationship Id="rId43" Type="http://schemas.openxmlformats.org/officeDocument/2006/relationships/slide" Target="slides/slide1.xml"/><Relationship Id="rId44" Type="http://schemas.openxmlformats.org/officeDocument/2006/relationships/slide" Target="slides/slide2.xml"/><Relationship Id="rId45" Type="http://schemas.openxmlformats.org/officeDocument/2006/relationships/slide" Target="slides/slide3.xml"/><Relationship Id="rId46" Type="http://schemas.openxmlformats.org/officeDocument/2006/relationships/slide" Target="slides/slide4.xml"/><Relationship Id="rId47" Type="http://schemas.openxmlformats.org/officeDocument/2006/relationships/slide" Target="slides/slide5.xml"/><Relationship Id="rId48" Type="http://schemas.openxmlformats.org/officeDocument/2006/relationships/slide" Target="slides/slide6.xml"/><Relationship Id="rId49" Type="http://schemas.openxmlformats.org/officeDocument/2006/relationships/slide" Target="slides/slide7.xml"/><Relationship Id="rId50" Type="http://schemas.openxmlformats.org/officeDocument/2006/relationships/slide" Target="slides/slide8.xml"/><Relationship Id="rId51" Type="http://schemas.openxmlformats.org/officeDocument/2006/relationships/slide" Target="slides/slide9.xml"/><Relationship Id="rId52" Type="http://schemas.openxmlformats.org/officeDocument/2006/relationships/slide" Target="slides/slide10.xml"/><Relationship Id="rId53" Type="http://schemas.openxmlformats.org/officeDocument/2006/relationships/slide" Target="slides/slide11.xml"/><Relationship Id="rId54" Type="http://schemas.openxmlformats.org/officeDocument/2006/relationships/slide" Target="slides/slide12.xml"/><Relationship Id="rId55" Type="http://schemas.openxmlformats.org/officeDocument/2006/relationships/slide" Target="slides/slide13.xml"/><Relationship Id="rId56" Type="http://schemas.openxmlformats.org/officeDocument/2006/relationships/slide" Target="slides/slide14.xml"/><Relationship Id="rId57" Type="http://schemas.openxmlformats.org/officeDocument/2006/relationships/slide" Target="slides/slide15.xml"/><Relationship Id="rId58" Type="http://schemas.openxmlformats.org/officeDocument/2006/relationships/slide" Target="slides/slide16.xml"/><Relationship Id="rId59" Type="http://schemas.openxmlformats.org/officeDocument/2006/relationships/slide" Target="slides/slide17.xml"/><Relationship Id="rId60" Type="http://schemas.openxmlformats.org/officeDocument/2006/relationships/slide" Target="slides/slide18.xml"/><Relationship Id="rId61" Type="http://schemas.openxmlformats.org/officeDocument/2006/relationships/slide" Target="slides/slide19.xml"/><Relationship Id="rId62" Type="http://schemas.openxmlformats.org/officeDocument/2006/relationships/slide" Target="slides/slide20.xml"/><Relationship Id="rId63" Type="http://schemas.openxmlformats.org/officeDocument/2006/relationships/slide" Target="slides/slide21.xml"/><Relationship Id="rId64" Type="http://schemas.openxmlformats.org/officeDocument/2006/relationships/slide" Target="slides/slide22.xml"/><Relationship Id="rId65" Type="http://schemas.openxmlformats.org/officeDocument/2006/relationships/slide" Target="slides/slide23.xml"/><Relationship Id="rId66" Type="http://schemas.openxmlformats.org/officeDocument/2006/relationships/slide" Target="slides/slide24.xml"/><Relationship Id="rId67" Type="http://schemas.openxmlformats.org/officeDocument/2006/relationships/slide" Target="slides/slide25.xml"/><Relationship Id="rId6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PlaceHolder 2"/>
          <p:cNvSpPr>
            <a:spLocks noGrp="1"/>
          </p:cNvSpPr>
          <p:nvPr>
            <p:ph type="dt" idx="12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PlaceHolder 5"/>
          <p:cNvSpPr>
            <a:spLocks noGrp="1"/>
          </p:cNvSpPr>
          <p:nvPr>
            <p:ph type="ftr" idx="12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PlaceHolder 6"/>
          <p:cNvSpPr>
            <a:spLocks noGrp="1"/>
          </p:cNvSpPr>
          <p:nvPr>
            <p:ph type="sldNum" idx="12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8DA04-A9BD-404A-AD8D-A49D38EE7E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5FD05-122E-486E-A8DC-0153B89C9219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A038D-2FAE-43C2-BDBB-A1FAB4437E2B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757C7-2ACE-4B5E-BA30-5A452D62058D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A8A7A-64D7-4881-A5B7-6EA1CAF0254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A29D6-93C2-4327-9914-2AF721D9FFF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fld id="{661B5D24-07EB-4C80-8375-4C43B496C9C6}" type="slidenum">
              <a:rPr b="1" lang="en-GB" sz="1100" spc="-1" strike="noStrike">
                <a:solidFill>
                  <a:srgbClr val="c0504d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D6AE2-E3F9-4734-B6F2-DFF7404BEAA3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75058-5CD6-4600-80FC-A8A444F7F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F1766-9D6E-4071-AE03-33D4FBFAD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C71ACF-4A5E-4E8C-B9B3-7F72DB356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882CB4-D4E7-4238-91E3-9150B959F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974E11-1690-4860-A1D4-90FE203FB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588E88-0CD5-4FF3-A9C6-524D4B42F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80543C-1B86-4DEA-8742-7C10F4A8F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635D34-FF13-4E43-92DD-D044B743F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9A1F40-D7E7-4599-AFC1-0F9C2948C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A490AA-DECE-4229-BC73-EC5C419F3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CE5E4B-9CD5-4915-BD50-271DF9380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531FD1-9D65-46F2-8A09-C406839C0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4EC26-EE52-43DB-8815-DBA1F8D5E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3D1B6F-32BF-47BB-85F8-BC718852D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3C08BE-E193-4B5D-A72A-95FBCA6B1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5E42CF-636B-4BB8-8254-DA34641B5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5003FA-E49B-4596-BA99-6F8B4CB74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63117E-EC81-4CE3-9C10-40827CD7B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78D717-F866-403B-8344-F8BC36C94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06FCA8-4A61-4188-A43E-C7CA3903F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6FF834-F85F-4A0E-8415-222A29B72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D4B7D9-1CF5-4850-9ADE-EB112609A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407665-8E2D-4BE2-98E6-ACAFE669A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8932B-B49E-4542-A1C1-41220F6BE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E12E1B-4FC7-477B-AD1B-D330DF439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34A1F0-C0FD-4029-84FD-56DBD55E4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51CEA9-E35D-4714-9FF0-A6A381EF2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555A90-21B3-44A4-854B-C97786F05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6DF093-CD6C-459A-ABC3-93262CDCC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43EEA9-62E1-4368-9122-4867FDAE6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CB85F8-63BF-4CD5-93CB-0893CE718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9D4683-DB45-441E-B952-F75BE898B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F5F46F-3AC4-4E6C-AE5D-05103C242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6DE06D-1A97-4BEE-987F-BF87CA3C0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F1988-8455-4344-BB45-BBFEDBBD4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06A025-E0B1-4D66-9B73-CF0A63DD6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3386C5-4939-43EB-A10C-8053DA35A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932BC4-FCB3-4A1C-9DD2-ABB7BB4D7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5550F4-E340-4E0E-9699-FB8D94303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C36786-C056-44F5-B57D-B7F1A0E3E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BF9501-6D34-4CFF-BE3B-D3BB1D6A9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BEE263-1166-47E4-B41F-CE6F817FB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5FA4D2-A4EC-4B6D-A786-3F8967813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07F1DB-740A-40DE-8E35-266BECEED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2EDDAB-467C-4121-B919-A881ABDF2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97496-AC1A-48DF-9501-8494638A6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F8069C-E86D-4718-81C0-AED64D899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6C7B82-7EAF-49D9-8CC0-79535F145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5F34C3-506F-45D2-BF5E-99B92F3B2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5D5D26-1D7B-4E08-9C59-4EE4E870D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06F5AC-D138-4E56-BE46-A256F945A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2A3E868-5ECE-4569-B8B6-93406DB0A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FECC81D-5D60-4D8D-810C-41EAE8762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4223C26-F650-41A6-8059-7D3B2D478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5AFA157-99AC-4136-9E6E-AE66369DE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C8A5EBE-4753-4D07-982C-F0CE4F3B5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26FFF-5841-4081-ACC0-17738C875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B6C2C5E-4729-454D-B7A6-9E0830613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FF0D240-81A2-438C-9DC8-488F94C13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215B231-0D01-4E77-8613-8B9D25521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D8FC201-B241-4935-949B-0B4121D0D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BC17BF0-7863-4943-9185-7798D2B17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655AFE3-F2A7-4D4D-86FE-F52289645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B146C58-0E0C-4800-9C04-F6C862738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715077F-F499-44F5-90C3-A4A8E4BD1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DB85F94-DAD5-45F9-9733-4BCC0FF11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94D5C8B-BAD0-4EC2-895F-8871770EA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1DB19-2C43-4482-BF61-1BB592140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4CC23A0-00CB-4ADA-86DC-6DBBC7469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1591BE8-30BC-496C-A05E-DE7E379CF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3467485-9322-4A19-BDC1-435BA0121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58E3C47-C25E-440E-99CE-3389AE833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080EF82-F089-4B4A-96F7-BEDA8B3AD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8B06AFB-D4B0-424D-A85A-BCB5726AC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69E6FD9-87E1-4DE5-8C50-BCC9647E8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0003356-DA34-42C8-B940-327C4C3DF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5D3344B-A2F9-42AA-B665-370A57253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477F668-EA72-4E6D-915A-07246C602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44764-4B2C-4646-9199-1DBCEF4C0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993E941-F7CB-453E-B8C0-AF4B0ACBE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EBD6108-8CF5-4DBF-8087-3FBFFF3FF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0A5BF12-69F6-42A8-A445-BC37987DB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8FAF963-ABE1-47B7-A8B2-3689FDA4D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3EA757F-C00B-4D12-9EFB-10D078780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BC4A030-8B4D-4D57-AD02-C6FD77270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1B0991C-0401-457D-B966-1E1E510EA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B52C484-04AA-4CFF-B177-D460E46EB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497AFA3-60A6-423D-A56F-1730A5FA0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9EF9B2B-85C1-478C-ABC5-37822E12F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93EC2-F62D-468B-9D0D-4D2FF7E58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9B9FAFE-8D7C-4EA3-A5A1-DD9DBE8D9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FF54508-9B88-400F-9EBB-AF2B92674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B7BDABE-125E-4E47-8789-4102FB9FB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0AD8A3C-F5F2-4A7F-A660-0569E03FE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51987E7-37A6-4553-BE89-A15347F97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E2C1B34-6D05-487C-8D98-008D38F7A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1E88B6F-FFE7-4A7C-8083-7B8BECE6D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B492EF4-AD59-443D-B765-7C7273AFE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E7F8FB7-BACC-4AB5-B59A-129C8E469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3AED821-1460-475E-BE61-9E0F94E93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8F7F8-5DC6-4886-A382-ECF296DB3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96768D4-2FEF-4553-A3FE-067AC09B3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1223E50-DCFE-4C88-AA6C-95D72C428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87468FB-4690-457F-8508-3199FBC8F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1195A7B-C2EB-44E2-972C-8111F756D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6B65515-8420-453A-8760-F537C62E5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4767F0D-3DB4-4FBC-BDF8-1EF73F989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5438C6D-BC7F-4E84-829E-4597E07C1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081F7C7-17B2-427A-A554-1BD180595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4C87D98-BB6C-4C17-A155-AAED769D2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79417E0-CD74-4896-832D-C9AD15995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6360F-C88A-47C1-B844-8AD7300D0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3C289-0F19-4F25-B542-FB4C4EAB1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E6B7289-E871-4BDE-AB63-5516FE25E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AB77F17-2EB2-4067-80EC-68991A8D1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CCBBCD2-6E33-42E5-BB62-EEDA8D66F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6D8CC3F-1CF4-4887-AA74-0A512449B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0025CD2-8795-424C-99CF-7C7DA2992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21FFE66-318F-4EB3-BDD2-0D4880A7F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1B1E7D7-A31C-459C-9A65-1A0015445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19F19D0-668A-4CFE-BC2B-4791E0418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7D2F78C-A0EE-44C1-8940-8357B86F1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202784C-E0C3-4C07-BA1C-ED4F7ACA8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FD0E4-E0E0-4A48-9F47-2E24A4A6B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FC8297F-42DF-4C22-ACE2-334A1FC68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67CDF90-86E6-46CE-A67D-D8FD0FC93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CC2F963-5892-4BB5-A796-BA24A0E6A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D154800-E8F0-4ED4-B421-B794DF93F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49FD665-4C3B-47BF-9381-3A9696AD1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BD087E4-DF6D-4974-801A-45D57DB36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E0434C7-405A-40ED-AC72-CA62A9381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89243C0-DA24-4AA2-B3DA-26BC27D37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586B502-7C55-4A8C-8ABB-BD6DEB953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F492CEB-EFB0-4F48-B1FD-4542315D9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B11DE-7347-4C78-AFBD-CDA88FE17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E37F299-8517-4F5F-A5ED-C7F1F6CC1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8A6AC76-1EC8-4758-B5C3-2A1ED6358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BA569D8-4932-47E0-A3FC-BE65B3EC4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A992959-A6F1-486E-9D7E-4AB99C533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746382C-C89A-4A20-AFB8-85C3804E8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1B0CB77-ABD0-4D19-8C3C-A2C63F7E0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60B5E7C-41E7-42DE-8280-F6E67C964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5DBD9E1-B115-4E6A-9D5B-B6D39915D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3719842-DB23-43C3-8C51-DF5039889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A405D02-F836-4483-9873-6B0F0D8EC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F203C-D802-4FCE-A8FF-736F43920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5D9320C-D453-4B89-94FF-CE4F09852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BEFB2B3-07D2-488C-A7AE-C9E3702FF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2F5DDA5-E7E0-44A1-AA7E-9EB44C33A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FF70BFF-AF5A-450B-935D-579D77FFC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998462A-0918-47BD-9E77-0FAF103BA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A9F94A5-45DE-4413-815F-09E29D00E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7B64BAB-5F4E-4485-9322-EF607CBDE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DB3EE05-9F3E-4FF2-A391-558AA427F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350A5D7-A6A0-43A2-A765-F09ABF21D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62E3449-2600-46A9-9EFA-8CAF032A9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20534-B8D0-4642-A0BD-E219EFBEF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0418AE9-A215-4A8E-B2C3-550AC296D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3075108-908C-4A8B-BB1C-1CD5D7E4B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43F4B36-718C-4F1E-92AE-426EDC4E1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23E30E4-25E3-4E95-AE7E-5F59C4CB2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F2F3240-5337-4799-82E8-FE49530C5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3DB9387-2534-437F-BD5D-5779E0AFC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F4E2150-22DC-41FE-BD67-9A9D86ABD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B790705-592F-486B-A242-57DCF631B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EB1E261-7B4F-4ECC-ACE4-D32FFC882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63B1953-60B2-4A82-AA72-0ADB6B6D9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C9CD04-6E2C-4AB3-B5BE-136DA82A4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0B5A58A-3A91-4D4C-B48B-C50794987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A52B50E-40D4-46D1-BE86-C067FE06B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D21DFD2-7234-4E50-8AB9-4BB99315A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7D079F3-F7A3-40C4-BEAC-8F95C71CB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9BF6422-F0C0-409D-8748-E6664A01E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B858A49-AB72-4095-B0F6-3FB6186EC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7DFC22F-E390-49F9-96F8-966DA5DF0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891B574-199F-48CE-A15F-8520175A4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271E38C-3FCA-4E63-935A-748AFC60A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234A649-A854-4825-AACB-8DBAC12D0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EED118-6740-4644-A969-31775CAAB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8B51B9F-89DD-423F-8071-02F10F739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88A1F4B-C315-4ED9-9F15-E6A1D56BE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D08AC80-0BFB-4A71-AD06-FCCFEBC1A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CD920BB-C02F-4A5A-A4F8-0766235AA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F8DF281-44D2-4029-9053-FAC0FE578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8B6C51D-C45A-4FB9-830D-604EFE63E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58D4C8E-82AB-4AAA-B624-73994F224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BE30C39-8BD6-4ACB-A11D-56813B1F7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A1A3F26-2341-49ED-AADC-112B353A5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21656BD-EF61-47BC-B660-0CCA41BC7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5D5F0F-2327-43C6-A93E-8DF88703E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294C3DA-C480-486A-8401-2195C3E03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7A5449D-DD62-4F51-84A9-AB394E257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A2AE959-5CA6-497C-A5A4-BA38E52FD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584259C-20BC-4AF1-A8D7-35A1A1B11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78D9705-BFFA-4643-8A6F-06EEBD64F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5660DEE-DD5B-46B1-8158-7FE52911B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D8D4B79-E5FA-41CA-83BC-E64CA07B1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CD31453-5A3A-4F52-9024-DB7EF9223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4C36C58-60A0-4E19-A6C3-39F79BEA8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24991F1-F677-4C20-8357-6F2B10DEC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560F49-87F6-4025-82F3-9FEA4C8A9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530D0CE-84D1-419F-8B3A-92063C318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3E2C13E-B026-4A61-95DC-D0C6555F2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238E741-7C4B-4B57-A469-0938C0107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688F50A-5885-4EC4-ABEC-B8DDC33C1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F70879D-C377-4366-92DC-E7D690400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831DC08-9A5A-4271-B327-9F8A337D2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5AC3271-D420-48B6-9F46-DDCDBDE68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F62D696-20FA-4597-A1CE-6EEFDDA93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1BDFAB7-C516-445B-B315-2AF989F9C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E4500DA-9246-4B06-BF3B-B7C41332D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47693A-3910-4986-A0E7-2EF144E29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8942076-2F6A-4DE0-8E51-A1BC4193D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23707FE-7551-47AC-8CA5-B167BC291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EFF09D0-453D-4184-B807-DBCCFEC60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7CF7295-55AD-4832-BCED-14F63C873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0AAE42C-FAEC-4431-AEB0-4EEE05750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B67C061-14A3-415E-8008-0730D4489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AAD14ED-5122-43CE-8F00-49B91AA11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DBB57A8-A351-4E29-A2E1-CFB279809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A215D1B-17CC-4D26-A377-5BA803022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BD9ED59-8D2B-405D-982B-36DF6CE26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45E69-612B-4381-BAC1-7A28EB25C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F20B9B-6CA6-4979-80F1-86B4B4A93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C28483D-2870-49DD-A620-698B79881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A95B248-DCEF-4FA7-A57F-4D75DD4F4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5411CE6-3CDD-4A99-B758-68352C9DC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C8CDF6E-1441-4F7A-A53B-8FA5C2AE2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AA65B0C-A077-4B8B-8211-DFA0760AE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0A99BD3-83DE-49CB-824A-9BE406EFA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7DA2446-01FF-45F2-8FC0-38E14FDD5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A4CB58D-5BF1-471A-AA06-6E9FC1328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21F83EF-3391-42C3-A0E7-72B0F4692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8A1FF4C-EFBF-418A-B5AF-F90BE5143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212437-EF97-4D25-8260-D417BE9FD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F5A68C6-C11A-4BB1-86F1-F6B2B4998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01A70D6-FF15-48C8-BCC7-D7B4B201C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60F05BD-3B08-4B23-ACFA-94C08713D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48D6E61-18D3-49AC-A432-2A2CAB1A4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6F8C36E-636B-46D4-9FB5-9CBB84B7F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55F401A-8FBB-47D2-B483-D8840B200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DC0B3C3-2DED-44C0-A2C8-83F2B61DD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4E2F796-7B26-41DE-8967-7EE84E5FC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6DE380D-86AD-42FA-9713-B96577EAB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4F57A23-2F31-4DAE-8A51-DB678A72C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009033-618A-44C2-87B0-00D1A6679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7B802F2-334F-4514-BB4F-46CDF4FAC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E6A759A-7E01-41BB-B8A2-E7884E033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B320F0D-872D-4C77-AA33-C9562BBD0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8C940BE-4647-4A3A-AC42-186B50323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BA92B60-9450-4867-9767-9EBC01BC1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6948002-1BA2-421C-8CFC-10D9385EC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44BDE0A-8471-463E-B869-354F9238B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3F52248-2B51-4581-B882-CB247BB6F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663D0FA-C145-4BD4-851A-ED60E95FA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E1AC018-F6DD-4E8E-AB6F-92F4EF073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81B866-2BF0-4205-9013-2BCFB3C57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0E1F408-C670-4E54-A9B2-C5B728B11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01641CE-E828-409A-B302-3AEBFB295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A53B3AC-2901-421E-845F-C94833D4E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2AEF9F8-8A6F-4054-AE49-999C8FB39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F6C2DE9-1BA6-4B21-B28C-F8417AC99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2966756-2B66-4B33-B3F2-033A0855E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54B39F9-DFF4-4747-BB88-639BE5E93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88CBE47-EA8B-4C74-897B-5EA881C4F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8C0D1CE-5562-4871-AA99-D76D25C7B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D924867-7DDD-4235-91E7-E8B44475A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F701D4-82BF-4827-9FD5-FA1CFD783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46A6B6C-A5A0-4CBE-A863-ABB48C41A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2E69F69-B0D9-4187-B5ED-A14429E68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E7E73BB-3683-40F7-9F0A-85AEB7AEC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C7E537A-97A7-47BA-AE56-64FFA3EF7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C84B2A4-5FEC-4133-807F-AF06FCB8F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5AF0147-5150-416E-B1C5-A55EB8C61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7E558F6-3DA6-4F01-AE0A-571EA3614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AD1DCAC-2F26-4C91-BC9D-6DA952CDC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6767E16-CA3C-4692-91F8-E3437C413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5B76190-17A5-4D9F-8BB9-F4765D5D4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23B969-857E-47BF-B3BB-4A5C9DC0E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B05F156-8EE8-466F-960A-0FA868006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7DCBA33-B12B-485C-B4C8-4F98D129C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F0CA482-6866-4847-8DA8-9B1B7DBCD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1A0735F-DEA0-4BD0-92C3-CB78FD126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228B3A0-886D-483D-A7E3-411E8C2AA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D8BAD85-F75F-4437-B48F-2A1EC1C3F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670282B-88D8-4E31-A502-D5528797F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6AAAC4F-F620-4D63-96AE-DFE189923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4E4AFF0-7E8F-4178-A48F-E31D6D1FB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1B23748-08F7-4DC7-B131-8577534A0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B0304F-6F99-4846-8934-14D5388C4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722D1CD-3511-44F6-B1EE-6E6F7C75D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A0E2514-CF78-402A-B435-D49126841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357D5C6-2E97-4D1A-9E0B-6126592CD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2B0672B-8A51-490B-88C7-3161327A1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266226F-0A9B-4CFA-9346-444F3E962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C84E4C2-F279-420C-BAD9-D0898DEB4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13B6B41-02C0-4DF4-9CDB-ED78EBB69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7DF5A90-2EDD-4C5A-A099-DB0871C42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40656F9-B4E2-4A5C-BD38-81880FF42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B1738F1-20DF-490C-9108-248B3F99D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EA1D76-7FD8-4949-BDDB-8A4D94301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9C4B016-CC6D-4CD7-95EB-2BE15574F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2F26B9F-D1FF-4887-919F-5764CAC01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60FC54E-3E1A-472F-A131-D7B424AA9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4F40F6A8-8009-455B-9979-137B69F42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13EB60DC-48ED-4D19-8C9B-B1ED2F7AE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44930B49-FABA-472B-BE19-C28C8487C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3F51A8B2-E8D4-4F3D-A140-61B8D6A35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0C67229A-DB41-4A8C-922C-F5900D408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98063571-46D4-4CAD-996A-6273736AA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45DB2D68-0FAC-4606-938F-3876C67E3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3CE7C4-5F8C-4BC1-BE76-A71CC15F8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EC2AF5F0-4201-4CA5-9508-DF86B1CBC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9E099FB4-3AB4-4793-AC03-3BC2BD62F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1268F8B2-4E3B-4629-9FF1-56D9D722D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886FCDBA-6865-4E61-9B08-96FAB9A2C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79C8664A-BF74-4060-BC50-320498B4B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1C2F51FB-D2D8-4976-A948-8EA198790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919A4F6A-DF90-41B2-944D-AB04BA293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5609328B-2A58-4351-B037-8E976617E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6E95C082-EC28-4A9C-BB19-7F1307648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A7524BBD-6F74-4FB2-AAA1-6465A9AF1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3AE0C3-77A0-47B6-983D-762A6E2B9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2D360641-6732-4F1E-BAD3-CED9B1856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34D2D833-7D3C-4A55-935D-E19F49533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770A150C-DB67-44B3-B88C-7C7B54D99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5BB271C6-F067-49E9-B8F3-CF6C90326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FB6F4006-3094-462F-AD2E-ADEC9DA1F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E23ABC48-E84E-4AA5-9F36-FD13FE333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351F834B-01F5-49EE-AD5D-5C53AFC30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1D10F696-942F-4652-A128-4980ACE88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A95BE1E1-9FE4-4096-BE2C-DBA8A8E36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A24BA95A-A1F3-439E-9109-BBA99F497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80A46-6CB8-4F01-9417-AF749A47F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5E9EF5-C300-4445-BB2E-7D3A4813D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FCF2870B-DF66-4AB1-BFDB-17A224A8D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E620646B-5D41-4E9C-BD6E-F31383A21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E765D03F-3182-4FB5-93E9-1BCAFEBFC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0ED05497-6BA3-4312-92BF-3C881391F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4DF6CC99-2B10-48AF-AC77-7DF54ADF5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A9378CF8-C598-449E-9BB1-EDC43AA04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AEE68CE0-57BB-416D-B5CC-139857181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3946FB75-56FD-4EBD-BB12-68D1A4D5E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63B35478-638E-42A2-8C04-4034A9376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56544E25-1D65-43E0-A8CF-F6ED70371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DF0572-76ED-4DF9-8BF7-4C2CF52D0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7234E36B-7C92-4DC2-8111-F26D44B7C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53F83BA2-B929-41EE-83C7-F036D7A7D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1D3E733F-82BF-41D0-9478-AF0EFDB8D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C4C14419-8C08-4CDE-A7F2-FB6199B51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0312CD6C-4B99-4D01-9AD3-37F5EDB7D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F3872348-F10E-431C-A108-D3F169669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14F106E7-FE49-4F59-BA24-0499FA27C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ED0D3CC9-A29E-4270-82A8-BA69D5BF3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CB0541F6-288B-4F6B-9A80-7D306DD58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661FA710-7695-4D6F-AB0F-C1CADD7A5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3A42EE-DECA-4CD7-93B5-A12AF4516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FA4E633B-7720-4FCC-AFFA-B270CBDF0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D2B0EF65-F8E4-4EC3-AE45-E9A141F12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2B12F85C-501C-49A8-A592-A73DA2C5B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2D60CC57-FB19-4D83-A9C9-5A86F249E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8405344F-25CC-48BD-996E-3CEE1E118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FE3A8FD9-009E-43CC-BE76-4F27DBFE8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EE986401-53C8-41D0-80C9-C5019AD8A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1D422A1E-62C8-4578-B9CA-675360915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60E195FD-2E37-49B4-99A5-09A32B77F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C40CA289-55E4-4AA9-804D-5B75F2DCF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5E233E-5642-4895-9185-2019C8C6F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40CA180C-8442-4F8F-9516-829B827BB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20739A01-9DD2-4B80-90DD-025CC12EF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67AE0BA5-7C7B-4DC3-BF62-1F5E7DFA6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62D1BD11-BF98-4247-B74A-4827B82B4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CC2FA454-A264-4323-8580-29D74FEE6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7CD68C19-90F3-4F26-A4A7-30DAD92F6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79624727-D11B-41C9-BC5A-34093CB53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277BDD8A-C663-4367-96C3-2C230790F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E2FCEDE2-8BB4-4322-900A-2CB764EDB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89258466-8959-4196-9D4C-BAED1A96E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A8F123-E513-4B46-9A95-02B9AE7B4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5216FFA8-4F5E-4CF9-8662-DA48959A1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F2532D19-E22D-49F5-9BA2-8454B2203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486BAD09-6995-4E6A-AA8A-E5106076D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B13ADA74-6119-4AB4-ABDC-EFBFA24E6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080CD0FF-6FE5-417E-AE4A-64997B461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07797951-9723-414F-A264-2ABE810A5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424A30CB-1360-4FB0-9E1A-B83BD7BBD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FC838D58-A5D2-4866-9A9C-F30B08FE4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FAA02AEE-D873-4998-859D-B1A005B2F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1176B7FC-313C-4DDB-B684-2EC4AC190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00EDAC-11E2-4ED0-9930-7280C508C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B6E1A315-0C55-4D24-BDA7-BC6E2BA42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20DE3944-029B-4C31-A628-975C87B7E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32692711-B600-4256-8DD5-66AED61CE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EEE67018-3D2F-4C87-91FE-970EC58D3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4BC1B7D1-90F7-4D81-A32E-AEB8E2FA9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98110621-55A1-45F0-80B3-B72AEE809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36405525-7E72-4B49-859F-22A25EAA8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46E6E28C-8AC9-4491-A9D0-288CF8C39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88E1682B-D56B-4826-BE3A-3B826C97A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CC053B10-F129-4480-906E-FB7FDAFAC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DED31A-57AD-4652-A3C9-86E49FA1A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2E9A72DD-8D42-47B6-8F0A-E9B4A5B1A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F76C4814-2B0E-462B-ABF9-38721A25A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0FD7BA7A-19A9-4E85-A972-B5E09FA7B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326301A0-470B-4400-87A3-596C1149E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4E68C8F1-FAC4-4DDE-97DD-28738205E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54A25410-8B67-4EEA-AC61-43BDD1604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390E0487-60FC-4D81-ADB3-187843A19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A8BA1519-1970-4D56-895B-338A46309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7C094AE7-39EF-4CCA-9817-C30976599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C79EA91C-36E4-4E41-B53A-6C91830FA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FA98EB-F57F-48A7-90F1-110F039A0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E95A2E02-C61D-45E3-874A-1B7547A93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81E10366-5ACC-4EC7-A56C-762B74BB8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BDA52B46-4BE2-4935-898B-76AC34B98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84D5E1F8-A2F3-48A2-9CDF-9B80B8327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8DD45A0E-3664-44FF-91AA-322CE4C49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07492E5F-DCFD-4893-A851-D011169A3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28FEBA3F-019B-4C0E-8730-87FBABC39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B6C8BF48-3D06-4D8A-8401-6A9629EA9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418C9710-C62C-4D36-BC4B-AF891207C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313BAD45-8096-4D31-95CA-96BBBC550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EB94A9-A79F-4DC2-86A9-9C856C680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EDE943CE-2094-4EA8-8E9C-E228B315B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1C90D1-1AC8-4004-BD2F-08B231A80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1B855-1282-4CDD-8F62-9214EC6F7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156321-645E-4C88-AE5A-BC1BEBE17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7008F2-29AF-4A6C-85D2-C803EEF4C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FB1EFF-468D-4252-9549-8AB1F46B3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F5A99B-3387-4DFA-B93C-8B61E660C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B521BE-EB62-4BB5-B0BF-A8C5B8260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BD09E5-BBE6-4A63-B641-13A18E9F4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A13C37-BDB9-411E-8559-0DAF05E0D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382F73-1F13-444C-A23D-4B603E1A7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71A9A9-F331-4BE8-967F-BE0F27E6C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B5E6C7-2CB6-4CBD-85E6-664395928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C2660-0184-48DB-AC41-1B164910E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E43DE5-E02A-4046-B566-9BF98DC69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C86CB4-810B-4DD1-9051-67DDADCA2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B49680-D270-4622-8058-EB6DFF9F2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B2C092-A887-42D6-AD89-3D38079ED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B21519-8B48-4C45-9C5D-2492F3DBF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E08548-396A-4436-9F63-46094BF33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C4F902-7EF5-4571-8FC5-ACEA4E2F7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FC2851-61F3-468C-A44C-292A2A342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44D969-1559-44CA-B39E-6355DC4C2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13F9F4-CAFF-4A3C-BF49-DB07EEDB0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1F99B-814D-4541-B292-F13C7404F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F1BA6F-C7BF-449C-A005-F73869CDE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B4D26E-C922-46E1-9F32-221DB9D7B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524ACD-1597-424A-8F30-5549351A1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5A159E-BECF-4399-A724-601604FBA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51E7D7-475B-49FE-B6EF-43CDF1E7A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A9619B-DB0A-44CF-B525-B91049500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EFAFFD-5CCC-4F71-B06C-DAB122EFE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F4065A-0F7A-4CDA-A0CD-0951B5074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809EA0-B64A-4529-9628-E905F3AF4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45DCBB-204B-4BD7-8B12-AA51401CE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E12F9-26E2-492F-A2F0-BDD865565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DC130D-4C5A-43FE-8B20-AF9FA69D5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FD8E2C-976E-4A40-BC8D-7638A65C7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257F23-F970-45FE-BDE6-ADFB12BC8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299975-1925-4AA0-8E05-913F2C8C8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60350E-A3E4-4608-BA08-13AB6F74F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BA7D44-ADA3-4B03-BC7B-7BA395CCA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9E059A-32FC-4527-AF29-73429382D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7E876D-0C01-4A61-B0D5-93489FDB6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06EF59-415A-4C90-8E5A-0944B57F3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1F74FC-B0FC-4D59-B1FC-DB4DC8D22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CEC6B-9996-432C-B541-23ACBE6EE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1AE991-4CF2-47DF-AC4B-4A645DC7D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AFE754-7E13-44E4-9C15-40D96EB9E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39208D-5CB3-42B3-9028-EA5CCC6EC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5962B4-CB50-4849-8C65-1A40575AC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9F85CA-FB2F-44DB-AD9A-207679CD0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9ED15B-E80A-4AEB-976B-48FEB06A9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C7853F-E989-4619-998D-17697B35C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F3E681-D30E-4CEC-96E5-6597FCB5D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4BB18D-43E0-4A15-ACAB-6E4BFAD94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366F4D-31EE-4F2E-BF4F-7FC9626AC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slideLayout" Target="../slideLayouts/slideLayout373.xml"/><Relationship Id="rId3" Type="http://schemas.openxmlformats.org/officeDocument/2006/relationships/slideLayout" Target="../slideLayouts/slideLayout374.xml"/><Relationship Id="rId4" Type="http://schemas.openxmlformats.org/officeDocument/2006/relationships/slideLayout" Target="../slideLayouts/slideLayout375.xml"/><Relationship Id="rId5" Type="http://schemas.openxmlformats.org/officeDocument/2006/relationships/slideLayout" Target="../slideLayouts/slideLayout376.xml"/><Relationship Id="rId6" Type="http://schemas.openxmlformats.org/officeDocument/2006/relationships/slideLayout" Target="../slideLayouts/slideLayout377.xml"/><Relationship Id="rId7" Type="http://schemas.openxmlformats.org/officeDocument/2006/relationships/slideLayout" Target="../slideLayouts/slideLayout378.xml"/><Relationship Id="rId8" Type="http://schemas.openxmlformats.org/officeDocument/2006/relationships/slideLayout" Target="../slideLayouts/slideLayout379.xml"/><Relationship Id="rId9" Type="http://schemas.openxmlformats.org/officeDocument/2006/relationships/slideLayout" Target="../slideLayouts/slideLayout380.xml"/><Relationship Id="rId10" Type="http://schemas.openxmlformats.org/officeDocument/2006/relationships/slideLayout" Target="../slideLayouts/slideLayout381.xml"/><Relationship Id="rId11" Type="http://schemas.openxmlformats.org/officeDocument/2006/relationships/slideLayout" Target="../slideLayouts/slideLayout382.xml"/><Relationship Id="rId12" Type="http://schemas.openxmlformats.org/officeDocument/2006/relationships/slideLayout" Target="../slideLayouts/slideLayout383.xml"/><Relationship Id="rId13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slideLayout" Target="../slideLayouts/slideLayout385.xml"/><Relationship Id="rId3" Type="http://schemas.openxmlformats.org/officeDocument/2006/relationships/slideLayout" Target="../slideLayouts/slideLayout386.xml"/><Relationship Id="rId4" Type="http://schemas.openxmlformats.org/officeDocument/2006/relationships/slideLayout" Target="../slideLayouts/slideLayout387.xml"/><Relationship Id="rId5" Type="http://schemas.openxmlformats.org/officeDocument/2006/relationships/slideLayout" Target="../slideLayouts/slideLayout388.xml"/><Relationship Id="rId6" Type="http://schemas.openxmlformats.org/officeDocument/2006/relationships/slideLayout" Target="../slideLayouts/slideLayout389.xml"/><Relationship Id="rId7" Type="http://schemas.openxmlformats.org/officeDocument/2006/relationships/slideLayout" Target="../slideLayouts/slideLayout390.xml"/><Relationship Id="rId8" Type="http://schemas.openxmlformats.org/officeDocument/2006/relationships/slideLayout" Target="../slideLayouts/slideLayout391.xml"/><Relationship Id="rId9" Type="http://schemas.openxmlformats.org/officeDocument/2006/relationships/slideLayout" Target="../slideLayouts/slideLayout392.xml"/><Relationship Id="rId10" Type="http://schemas.openxmlformats.org/officeDocument/2006/relationships/slideLayout" Target="../slideLayouts/slideLayout393.xml"/><Relationship Id="rId11" Type="http://schemas.openxmlformats.org/officeDocument/2006/relationships/slideLayout" Target="../slideLayouts/slideLayout394.xml"/><Relationship Id="rId12" Type="http://schemas.openxmlformats.org/officeDocument/2006/relationships/slideLayout" Target="../slideLayouts/slideLayout395.xml"/><Relationship Id="rId13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slideLayout" Target="../slideLayouts/slideLayout397.xml"/><Relationship Id="rId3" Type="http://schemas.openxmlformats.org/officeDocument/2006/relationships/slideLayout" Target="../slideLayouts/slideLayout398.xml"/><Relationship Id="rId4" Type="http://schemas.openxmlformats.org/officeDocument/2006/relationships/slideLayout" Target="../slideLayouts/slideLayout399.xml"/><Relationship Id="rId5" Type="http://schemas.openxmlformats.org/officeDocument/2006/relationships/slideLayout" Target="../slideLayouts/slideLayout400.xml"/><Relationship Id="rId6" Type="http://schemas.openxmlformats.org/officeDocument/2006/relationships/slideLayout" Target="../slideLayouts/slideLayout401.xml"/><Relationship Id="rId7" Type="http://schemas.openxmlformats.org/officeDocument/2006/relationships/slideLayout" Target="../slideLayouts/slideLayout402.xml"/><Relationship Id="rId8" Type="http://schemas.openxmlformats.org/officeDocument/2006/relationships/slideLayout" Target="../slideLayouts/slideLayout403.xml"/><Relationship Id="rId9" Type="http://schemas.openxmlformats.org/officeDocument/2006/relationships/slideLayout" Target="../slideLayouts/slideLayout404.xml"/><Relationship Id="rId10" Type="http://schemas.openxmlformats.org/officeDocument/2006/relationships/slideLayout" Target="../slideLayouts/slideLayout405.xml"/><Relationship Id="rId11" Type="http://schemas.openxmlformats.org/officeDocument/2006/relationships/slideLayout" Target="../slideLayouts/slideLayout406.xml"/><Relationship Id="rId12" Type="http://schemas.openxmlformats.org/officeDocument/2006/relationships/slideLayout" Target="../slideLayouts/slideLayout407.xml"/><Relationship Id="rId13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slideLayout" Target="../slideLayouts/slideLayout409.xml"/><Relationship Id="rId3" Type="http://schemas.openxmlformats.org/officeDocument/2006/relationships/slideLayout" Target="../slideLayouts/slideLayout410.xml"/><Relationship Id="rId4" Type="http://schemas.openxmlformats.org/officeDocument/2006/relationships/slideLayout" Target="../slideLayouts/slideLayout411.xml"/><Relationship Id="rId5" Type="http://schemas.openxmlformats.org/officeDocument/2006/relationships/slideLayout" Target="../slideLayouts/slideLayout412.xml"/><Relationship Id="rId6" Type="http://schemas.openxmlformats.org/officeDocument/2006/relationships/slideLayout" Target="../slideLayouts/slideLayout413.xml"/><Relationship Id="rId7" Type="http://schemas.openxmlformats.org/officeDocument/2006/relationships/slideLayout" Target="../slideLayouts/slideLayout414.xml"/><Relationship Id="rId8" Type="http://schemas.openxmlformats.org/officeDocument/2006/relationships/slideLayout" Target="../slideLayouts/slideLayout415.xml"/><Relationship Id="rId9" Type="http://schemas.openxmlformats.org/officeDocument/2006/relationships/slideLayout" Target="../slideLayouts/slideLayout416.xml"/><Relationship Id="rId10" Type="http://schemas.openxmlformats.org/officeDocument/2006/relationships/slideLayout" Target="../slideLayouts/slideLayout417.xml"/><Relationship Id="rId11" Type="http://schemas.openxmlformats.org/officeDocument/2006/relationships/slideLayout" Target="../slideLayouts/slideLayout418.xml"/><Relationship Id="rId12" Type="http://schemas.openxmlformats.org/officeDocument/2006/relationships/slideLayout" Target="../slideLayouts/slideLayout419.xml"/><Relationship Id="rId13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slideLayout" Target="../slideLayouts/slideLayout421.xml"/><Relationship Id="rId3" Type="http://schemas.openxmlformats.org/officeDocument/2006/relationships/slideLayout" Target="../slideLayouts/slideLayout422.xml"/><Relationship Id="rId4" Type="http://schemas.openxmlformats.org/officeDocument/2006/relationships/slideLayout" Target="../slideLayouts/slideLayout423.xml"/><Relationship Id="rId5" Type="http://schemas.openxmlformats.org/officeDocument/2006/relationships/slideLayout" Target="../slideLayouts/slideLayout424.xml"/><Relationship Id="rId6" Type="http://schemas.openxmlformats.org/officeDocument/2006/relationships/slideLayout" Target="../slideLayouts/slideLayout425.xml"/><Relationship Id="rId7" Type="http://schemas.openxmlformats.org/officeDocument/2006/relationships/slideLayout" Target="../slideLayouts/slideLayout426.xml"/><Relationship Id="rId8" Type="http://schemas.openxmlformats.org/officeDocument/2006/relationships/slideLayout" Target="../slideLayouts/slideLayout427.xml"/><Relationship Id="rId9" Type="http://schemas.openxmlformats.org/officeDocument/2006/relationships/slideLayout" Target="../slideLayouts/slideLayout428.xml"/><Relationship Id="rId10" Type="http://schemas.openxmlformats.org/officeDocument/2006/relationships/slideLayout" Target="../slideLayouts/slideLayout429.xml"/><Relationship Id="rId11" Type="http://schemas.openxmlformats.org/officeDocument/2006/relationships/slideLayout" Target="../slideLayouts/slideLayout430.xml"/><Relationship Id="rId12" Type="http://schemas.openxmlformats.org/officeDocument/2006/relationships/slideLayout" Target="../slideLayouts/slideLayout431.xml"/><Relationship Id="rId13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slideLayout" Target="../slideLayouts/slideLayout433.xml"/><Relationship Id="rId3" Type="http://schemas.openxmlformats.org/officeDocument/2006/relationships/slideLayout" Target="../slideLayouts/slideLayout434.xml"/><Relationship Id="rId4" Type="http://schemas.openxmlformats.org/officeDocument/2006/relationships/slideLayout" Target="../slideLayouts/slideLayout435.xml"/><Relationship Id="rId5" Type="http://schemas.openxmlformats.org/officeDocument/2006/relationships/slideLayout" Target="../slideLayouts/slideLayout436.xml"/><Relationship Id="rId6" Type="http://schemas.openxmlformats.org/officeDocument/2006/relationships/slideLayout" Target="../slideLayouts/slideLayout437.xml"/><Relationship Id="rId7" Type="http://schemas.openxmlformats.org/officeDocument/2006/relationships/slideLayout" Target="../slideLayouts/slideLayout438.xml"/><Relationship Id="rId8" Type="http://schemas.openxmlformats.org/officeDocument/2006/relationships/slideLayout" Target="../slideLayouts/slideLayout439.xml"/><Relationship Id="rId9" Type="http://schemas.openxmlformats.org/officeDocument/2006/relationships/slideLayout" Target="../slideLayouts/slideLayout440.xml"/><Relationship Id="rId10" Type="http://schemas.openxmlformats.org/officeDocument/2006/relationships/slideLayout" Target="../slideLayouts/slideLayout441.xml"/><Relationship Id="rId11" Type="http://schemas.openxmlformats.org/officeDocument/2006/relationships/slideLayout" Target="../slideLayouts/slideLayout442.xml"/><Relationship Id="rId12" Type="http://schemas.openxmlformats.org/officeDocument/2006/relationships/slideLayout" Target="../slideLayouts/slideLayout443.xml"/><Relationship Id="rId13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slideLayout" Target="../slideLayouts/slideLayout445.xml"/><Relationship Id="rId3" Type="http://schemas.openxmlformats.org/officeDocument/2006/relationships/slideLayout" Target="../slideLayouts/slideLayout446.xml"/><Relationship Id="rId4" Type="http://schemas.openxmlformats.org/officeDocument/2006/relationships/slideLayout" Target="../slideLayouts/slideLayout447.xml"/><Relationship Id="rId5" Type="http://schemas.openxmlformats.org/officeDocument/2006/relationships/slideLayout" Target="../slideLayouts/slideLayout448.xml"/><Relationship Id="rId6" Type="http://schemas.openxmlformats.org/officeDocument/2006/relationships/slideLayout" Target="../slideLayouts/slideLayout449.xml"/><Relationship Id="rId7" Type="http://schemas.openxmlformats.org/officeDocument/2006/relationships/slideLayout" Target="../slideLayouts/slideLayout450.xml"/><Relationship Id="rId8" Type="http://schemas.openxmlformats.org/officeDocument/2006/relationships/slideLayout" Target="../slideLayouts/slideLayout451.xml"/><Relationship Id="rId9" Type="http://schemas.openxmlformats.org/officeDocument/2006/relationships/slideLayout" Target="../slideLayouts/slideLayout452.xml"/><Relationship Id="rId10" Type="http://schemas.openxmlformats.org/officeDocument/2006/relationships/slideLayout" Target="../slideLayouts/slideLayout453.xml"/><Relationship Id="rId11" Type="http://schemas.openxmlformats.org/officeDocument/2006/relationships/slideLayout" Target="../slideLayouts/slideLayout454.xml"/><Relationship Id="rId12" Type="http://schemas.openxmlformats.org/officeDocument/2006/relationships/slideLayout" Target="../slideLayouts/slideLayout455.xml"/><Relationship Id="rId13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slideLayout" Target="../slideLayouts/slideLayout457.xml"/><Relationship Id="rId3" Type="http://schemas.openxmlformats.org/officeDocument/2006/relationships/slideLayout" Target="../slideLayouts/slideLayout458.xml"/><Relationship Id="rId4" Type="http://schemas.openxmlformats.org/officeDocument/2006/relationships/slideLayout" Target="../slideLayouts/slideLayout459.xml"/><Relationship Id="rId5" Type="http://schemas.openxmlformats.org/officeDocument/2006/relationships/slideLayout" Target="../slideLayouts/slideLayout460.xml"/><Relationship Id="rId6" Type="http://schemas.openxmlformats.org/officeDocument/2006/relationships/slideLayout" Target="../slideLayouts/slideLayout461.xml"/><Relationship Id="rId7" Type="http://schemas.openxmlformats.org/officeDocument/2006/relationships/slideLayout" Target="../slideLayouts/slideLayout462.xml"/><Relationship Id="rId8" Type="http://schemas.openxmlformats.org/officeDocument/2006/relationships/slideLayout" Target="../slideLayouts/slideLayout463.xml"/><Relationship Id="rId9" Type="http://schemas.openxmlformats.org/officeDocument/2006/relationships/slideLayout" Target="../slideLayouts/slideLayout464.xml"/><Relationship Id="rId10" Type="http://schemas.openxmlformats.org/officeDocument/2006/relationships/slideLayout" Target="../slideLayouts/slideLayout465.xml"/><Relationship Id="rId11" Type="http://schemas.openxmlformats.org/officeDocument/2006/relationships/slideLayout" Target="../slideLayouts/slideLayout466.xml"/><Relationship Id="rId12" Type="http://schemas.openxmlformats.org/officeDocument/2006/relationships/slideLayout" Target="../slideLayouts/slideLayout467.xml"/><Relationship Id="rId13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slideLayout" Target="../slideLayouts/slideLayout469.xml"/><Relationship Id="rId3" Type="http://schemas.openxmlformats.org/officeDocument/2006/relationships/slideLayout" Target="../slideLayouts/slideLayout470.xml"/><Relationship Id="rId4" Type="http://schemas.openxmlformats.org/officeDocument/2006/relationships/slideLayout" Target="../slideLayouts/slideLayout471.xml"/><Relationship Id="rId5" Type="http://schemas.openxmlformats.org/officeDocument/2006/relationships/slideLayout" Target="../slideLayouts/slideLayout472.xml"/><Relationship Id="rId6" Type="http://schemas.openxmlformats.org/officeDocument/2006/relationships/slideLayout" Target="../slideLayouts/slideLayout473.xml"/><Relationship Id="rId7" Type="http://schemas.openxmlformats.org/officeDocument/2006/relationships/slideLayout" Target="../slideLayouts/slideLayout474.xml"/><Relationship Id="rId8" Type="http://schemas.openxmlformats.org/officeDocument/2006/relationships/slideLayout" Target="../slideLayouts/slideLayout475.xml"/><Relationship Id="rId9" Type="http://schemas.openxmlformats.org/officeDocument/2006/relationships/slideLayout" Target="../slideLayouts/slideLayout476.xml"/><Relationship Id="rId10" Type="http://schemas.openxmlformats.org/officeDocument/2006/relationships/slideLayout" Target="../slideLayouts/slideLayout477.xml"/><Relationship Id="rId11" Type="http://schemas.openxmlformats.org/officeDocument/2006/relationships/slideLayout" Target="../slideLayouts/slideLayout478.xml"/><Relationship Id="rId12" Type="http://schemas.openxmlformats.org/officeDocument/2006/relationships/slideLayout" Target="../slideLayouts/slideLayout479.xml"/><Relationship Id="rId13" Type="http://schemas.openxmlformats.org/officeDocument/2006/relationships/slideLayout" Target="../slideLayouts/slideLayout480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F02EA-4630-4EE7-AD9C-8444D65E059B}" type="datetime"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6493A-6DC5-4D5B-B126-87A377521E9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8E17B-676A-44CA-9947-EFE34685FAA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35E46-B4DF-49D2-BAF9-DE827D9FF70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CE089-B38E-41CB-BB82-4936D873090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B268D-F518-4EE2-BD76-5417D2E8A00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5D822-9250-47C3-AEFA-D1E5598C47D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64AB8-31EA-4359-8C66-6EF3047B667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4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4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4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72F7A-8FC6-42B3-828E-89FF3547A33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5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5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58091-6ECA-4589-BAAB-90B8BF93308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dt" idx="5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ftr" idx="5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sldNum" idx="5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AAC27-0097-4350-9B2F-CF79E27FF64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 type="dt" idx="5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 type="ftr" idx="5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 type="sldNum" idx="5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2455A-2AC6-4C9B-B004-EBEDF21CAEC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50355-6ECF-448B-8A7B-8C2735F9B67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 type="dt" idx="5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 type="ftr" idx="5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 type="sldNum" idx="6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A216B-21C4-43D7-878A-2F31A028A37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 type="dt" idx="6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 type="ftr" idx="6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 type="sldNum" idx="6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1B24A-7B01-48AB-934D-5DD730F6206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 type="dt" idx="6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 type="ftr" idx="6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 type="sldNum" idx="6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4E13A-802E-43E5-BDAB-4CFDA53E2AD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 type="dt" idx="6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 type="ftr" idx="6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 type="sldNum" idx="6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EDD05-EAE9-4597-AE7F-2FAA4EEBA80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 type="dt" idx="7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 type="ftr" idx="7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 type="sldNum" idx="7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AA250-5CEF-4A61-91B1-4E2917A8418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 type="dt" idx="7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 type="ftr" idx="7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8" name="PlaceHolder 5"/>
          <p:cNvSpPr>
            <a:spLocks noGrp="1"/>
          </p:cNvSpPr>
          <p:nvPr>
            <p:ph type="sldNum" idx="7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DA10F-CC4C-4FD1-B1F6-E3F3E87ABD6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dt" idx="7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8" name="PlaceHolder 4"/>
          <p:cNvSpPr>
            <a:spLocks noGrp="1"/>
          </p:cNvSpPr>
          <p:nvPr>
            <p:ph type="ftr" idx="7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9" name="PlaceHolder 5"/>
          <p:cNvSpPr>
            <a:spLocks noGrp="1"/>
          </p:cNvSpPr>
          <p:nvPr>
            <p:ph type="sldNum" idx="7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22AB6-C28C-4E24-BE1A-DE8C9CF93E5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 type="dt" idx="7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 type="ftr" idx="8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 type="sldNum" idx="8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91041-CE04-4B8B-8ABE-9D5251881BB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dt" idx="8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ftr" idx="8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sldNum" idx="8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F2952-F8F1-4E8F-8C7A-93CEBA3DEBC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 type="dt" idx="8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1" name="PlaceHolder 4"/>
          <p:cNvSpPr>
            <a:spLocks noGrp="1"/>
          </p:cNvSpPr>
          <p:nvPr>
            <p:ph type="ftr" idx="8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2" name="PlaceHolder 5"/>
          <p:cNvSpPr>
            <a:spLocks noGrp="1"/>
          </p:cNvSpPr>
          <p:nvPr>
            <p:ph type="sldNum" idx="8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6DBF6-B7AB-417C-B314-AD7349F64CB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0D69E-C20D-4240-BDCD-EC7391D8E8C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PlaceHolder 3"/>
          <p:cNvSpPr>
            <a:spLocks noGrp="1"/>
          </p:cNvSpPr>
          <p:nvPr>
            <p:ph type="dt" idx="8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2" name="PlaceHolder 4"/>
          <p:cNvSpPr>
            <a:spLocks noGrp="1"/>
          </p:cNvSpPr>
          <p:nvPr>
            <p:ph type="ftr" idx="8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3" name="PlaceHolder 5"/>
          <p:cNvSpPr>
            <a:spLocks noGrp="1"/>
          </p:cNvSpPr>
          <p:nvPr>
            <p:ph type="sldNum" idx="9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60E6B-5B2D-4472-8BD8-73EAF9EE801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PlaceHolder 3"/>
          <p:cNvSpPr>
            <a:spLocks noGrp="1"/>
          </p:cNvSpPr>
          <p:nvPr>
            <p:ph type="dt" idx="9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3" name="PlaceHolder 4"/>
          <p:cNvSpPr>
            <a:spLocks noGrp="1"/>
          </p:cNvSpPr>
          <p:nvPr>
            <p:ph type="ftr" idx="9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4" name="PlaceHolder 5"/>
          <p:cNvSpPr>
            <a:spLocks noGrp="1"/>
          </p:cNvSpPr>
          <p:nvPr>
            <p:ph type="sldNum" idx="9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59FE9-A903-4247-AEFD-E06CA20D9DE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PlaceHolder 3"/>
          <p:cNvSpPr>
            <a:spLocks noGrp="1"/>
          </p:cNvSpPr>
          <p:nvPr>
            <p:ph type="dt" idx="9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4" name="PlaceHolder 4"/>
          <p:cNvSpPr>
            <a:spLocks noGrp="1"/>
          </p:cNvSpPr>
          <p:nvPr>
            <p:ph type="ftr" idx="9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5" name="PlaceHolder 5"/>
          <p:cNvSpPr>
            <a:spLocks noGrp="1"/>
          </p:cNvSpPr>
          <p:nvPr>
            <p:ph type="sldNum" idx="9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2A085-56FC-4B2E-83DB-53E13923238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2"/>
    <p:sldLayoutId id="2147484053" r:id="rId3"/>
    <p:sldLayoutId id="2147484054" r:id="rId4"/>
    <p:sldLayoutId id="2147484055" r:id="rId5"/>
    <p:sldLayoutId id="2147484056" r:id="rId6"/>
    <p:sldLayoutId id="2147484057" r:id="rId7"/>
    <p:sldLayoutId id="2147484058" r:id="rId8"/>
    <p:sldLayoutId id="2147484059" r:id="rId9"/>
    <p:sldLayoutId id="2147484060" r:id="rId10"/>
    <p:sldLayoutId id="2147484061" r:id="rId11"/>
    <p:sldLayoutId id="2147484062" r:id="rId12"/>
    <p:sldLayoutId id="2147484063" r:id="rId13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PlaceHolder 3"/>
          <p:cNvSpPr>
            <a:spLocks noGrp="1"/>
          </p:cNvSpPr>
          <p:nvPr>
            <p:ph type="dt" idx="9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5" name="PlaceHolder 4"/>
          <p:cNvSpPr>
            <a:spLocks noGrp="1"/>
          </p:cNvSpPr>
          <p:nvPr>
            <p:ph type="ftr" idx="9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6" name="PlaceHolder 5"/>
          <p:cNvSpPr>
            <a:spLocks noGrp="1"/>
          </p:cNvSpPr>
          <p:nvPr>
            <p:ph type="sldNum" idx="9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07A11-8AA2-453F-AE2D-10FB4B2F649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2"/>
    <p:sldLayoutId id="2147484066" r:id="rId3"/>
    <p:sldLayoutId id="2147484067" r:id="rId4"/>
    <p:sldLayoutId id="2147484068" r:id="rId5"/>
    <p:sldLayoutId id="2147484069" r:id="rId6"/>
    <p:sldLayoutId id="2147484070" r:id="rId7"/>
    <p:sldLayoutId id="2147484071" r:id="rId8"/>
    <p:sldLayoutId id="2147484072" r:id="rId9"/>
    <p:sldLayoutId id="2147484073" r:id="rId10"/>
    <p:sldLayoutId id="2147484074" r:id="rId11"/>
    <p:sldLayoutId id="2147484075" r:id="rId12"/>
    <p:sldLayoutId id="2147484076" r:id="rId13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PlaceHolder 3"/>
          <p:cNvSpPr>
            <a:spLocks noGrp="1"/>
          </p:cNvSpPr>
          <p:nvPr>
            <p:ph type="dt" idx="10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6" name="PlaceHolder 4"/>
          <p:cNvSpPr>
            <a:spLocks noGrp="1"/>
          </p:cNvSpPr>
          <p:nvPr>
            <p:ph type="ftr" idx="10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7" name="PlaceHolder 5"/>
          <p:cNvSpPr>
            <a:spLocks noGrp="1"/>
          </p:cNvSpPr>
          <p:nvPr>
            <p:ph type="sldNum" idx="10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0B481-78E5-4B66-A898-8FE7B1024C6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2"/>
    <p:sldLayoutId id="2147484079" r:id="rId3"/>
    <p:sldLayoutId id="2147484080" r:id="rId4"/>
    <p:sldLayoutId id="2147484081" r:id="rId5"/>
    <p:sldLayoutId id="2147484082" r:id="rId6"/>
    <p:sldLayoutId id="2147484083" r:id="rId7"/>
    <p:sldLayoutId id="2147484084" r:id="rId8"/>
    <p:sldLayoutId id="2147484085" r:id="rId9"/>
    <p:sldLayoutId id="2147484086" r:id="rId10"/>
    <p:sldLayoutId id="2147484087" r:id="rId11"/>
    <p:sldLayoutId id="2147484088" r:id="rId12"/>
    <p:sldLayoutId id="2147484089" r:id="rId13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PlaceHolder 3"/>
          <p:cNvSpPr>
            <a:spLocks noGrp="1"/>
          </p:cNvSpPr>
          <p:nvPr>
            <p:ph type="dt" idx="10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7" name="PlaceHolder 4"/>
          <p:cNvSpPr>
            <a:spLocks noGrp="1"/>
          </p:cNvSpPr>
          <p:nvPr>
            <p:ph type="ftr" idx="10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8" name="PlaceHolder 5"/>
          <p:cNvSpPr>
            <a:spLocks noGrp="1"/>
          </p:cNvSpPr>
          <p:nvPr>
            <p:ph type="sldNum" idx="10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F40F7-B77C-4790-81F7-559FC917E59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2"/>
    <p:sldLayoutId id="2147484092" r:id="rId3"/>
    <p:sldLayoutId id="2147484093" r:id="rId4"/>
    <p:sldLayoutId id="2147484094" r:id="rId5"/>
    <p:sldLayoutId id="2147484095" r:id="rId6"/>
    <p:sldLayoutId id="2147484096" r:id="rId7"/>
    <p:sldLayoutId id="2147484097" r:id="rId8"/>
    <p:sldLayoutId id="2147484098" r:id="rId9"/>
    <p:sldLayoutId id="2147484099" r:id="rId10"/>
    <p:sldLayoutId id="2147484100" r:id="rId11"/>
    <p:sldLayoutId id="2147484101" r:id="rId12"/>
    <p:sldLayoutId id="2147484102" r:id="rId13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PlaceHolder 3"/>
          <p:cNvSpPr>
            <a:spLocks noGrp="1"/>
          </p:cNvSpPr>
          <p:nvPr>
            <p:ph type="dt" idx="10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8" name="PlaceHolder 4"/>
          <p:cNvSpPr>
            <a:spLocks noGrp="1"/>
          </p:cNvSpPr>
          <p:nvPr>
            <p:ph type="ftr" idx="10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9" name="PlaceHolder 5"/>
          <p:cNvSpPr>
            <a:spLocks noGrp="1"/>
          </p:cNvSpPr>
          <p:nvPr>
            <p:ph type="sldNum" idx="10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83B2B-AA0F-492F-8392-5AA1C6E00AC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2"/>
    <p:sldLayoutId id="2147484105" r:id="rId3"/>
    <p:sldLayoutId id="2147484106" r:id="rId4"/>
    <p:sldLayoutId id="2147484107" r:id="rId5"/>
    <p:sldLayoutId id="2147484108" r:id="rId6"/>
    <p:sldLayoutId id="2147484109" r:id="rId7"/>
    <p:sldLayoutId id="2147484110" r:id="rId8"/>
    <p:sldLayoutId id="2147484111" r:id="rId9"/>
    <p:sldLayoutId id="2147484112" r:id="rId10"/>
    <p:sldLayoutId id="2147484113" r:id="rId11"/>
    <p:sldLayoutId id="2147484114" r:id="rId12"/>
    <p:sldLayoutId id="2147484115" r:id="rId13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PlaceHolder 3"/>
          <p:cNvSpPr>
            <a:spLocks noGrp="1"/>
          </p:cNvSpPr>
          <p:nvPr>
            <p:ph type="dt" idx="10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9" name="PlaceHolder 4"/>
          <p:cNvSpPr>
            <a:spLocks noGrp="1"/>
          </p:cNvSpPr>
          <p:nvPr>
            <p:ph type="ftr" idx="11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0" name="PlaceHolder 5"/>
          <p:cNvSpPr>
            <a:spLocks noGrp="1"/>
          </p:cNvSpPr>
          <p:nvPr>
            <p:ph type="sldNum" idx="11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1C403-608D-475C-86B5-8B64474447F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2"/>
    <p:sldLayoutId id="2147484118" r:id="rId3"/>
    <p:sldLayoutId id="2147484119" r:id="rId4"/>
    <p:sldLayoutId id="2147484120" r:id="rId5"/>
    <p:sldLayoutId id="2147484121" r:id="rId6"/>
    <p:sldLayoutId id="2147484122" r:id="rId7"/>
    <p:sldLayoutId id="2147484123" r:id="rId8"/>
    <p:sldLayoutId id="2147484124" r:id="rId9"/>
    <p:sldLayoutId id="2147484125" r:id="rId10"/>
    <p:sldLayoutId id="2147484126" r:id="rId11"/>
    <p:sldLayoutId id="2147484127" r:id="rId12"/>
    <p:sldLayoutId id="2147484128" r:id="rId13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PlaceHolder 3"/>
          <p:cNvSpPr>
            <a:spLocks noGrp="1"/>
          </p:cNvSpPr>
          <p:nvPr>
            <p:ph type="dt" idx="11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0" name="PlaceHolder 4"/>
          <p:cNvSpPr>
            <a:spLocks noGrp="1"/>
          </p:cNvSpPr>
          <p:nvPr>
            <p:ph type="ftr" idx="1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1" name="PlaceHolder 5"/>
          <p:cNvSpPr>
            <a:spLocks noGrp="1"/>
          </p:cNvSpPr>
          <p:nvPr>
            <p:ph type="sldNum" idx="11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D6F1D-6CD5-4383-AB11-92B86B1676C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2"/>
    <p:sldLayoutId id="2147484131" r:id="rId3"/>
    <p:sldLayoutId id="2147484132" r:id="rId4"/>
    <p:sldLayoutId id="2147484133" r:id="rId5"/>
    <p:sldLayoutId id="2147484134" r:id="rId6"/>
    <p:sldLayoutId id="2147484135" r:id="rId7"/>
    <p:sldLayoutId id="2147484136" r:id="rId8"/>
    <p:sldLayoutId id="2147484137" r:id="rId9"/>
    <p:sldLayoutId id="2147484138" r:id="rId10"/>
    <p:sldLayoutId id="2147484139" r:id="rId11"/>
    <p:sldLayoutId id="2147484140" r:id="rId12"/>
    <p:sldLayoutId id="2147484141" r:id="rId13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" name="PlaceHolder 3"/>
          <p:cNvSpPr>
            <a:spLocks noGrp="1"/>
          </p:cNvSpPr>
          <p:nvPr>
            <p:ph type="dt" idx="11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1" name="PlaceHolder 4"/>
          <p:cNvSpPr>
            <a:spLocks noGrp="1"/>
          </p:cNvSpPr>
          <p:nvPr>
            <p:ph type="ftr" idx="11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2" name="PlaceHolder 5"/>
          <p:cNvSpPr>
            <a:spLocks noGrp="1"/>
          </p:cNvSpPr>
          <p:nvPr>
            <p:ph type="sldNum" idx="11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2B86D-771E-4D61-B69C-4DEE4E82C42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2"/>
    <p:sldLayoutId id="2147484144" r:id="rId3"/>
    <p:sldLayoutId id="2147484145" r:id="rId4"/>
    <p:sldLayoutId id="2147484146" r:id="rId5"/>
    <p:sldLayoutId id="2147484147" r:id="rId6"/>
    <p:sldLayoutId id="2147484148" r:id="rId7"/>
    <p:sldLayoutId id="2147484149" r:id="rId8"/>
    <p:sldLayoutId id="2147484150" r:id="rId9"/>
    <p:sldLayoutId id="2147484151" r:id="rId10"/>
    <p:sldLayoutId id="2147484152" r:id="rId11"/>
    <p:sldLayoutId id="2147484153" r:id="rId12"/>
    <p:sldLayoutId id="2147484154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95422-FCB7-4003-BDBE-13FE4959109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PlaceHolder 3"/>
          <p:cNvSpPr>
            <a:spLocks noGrp="1"/>
          </p:cNvSpPr>
          <p:nvPr>
            <p:ph type="dt" idx="11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2" name="PlaceHolder 4"/>
          <p:cNvSpPr>
            <a:spLocks noGrp="1"/>
          </p:cNvSpPr>
          <p:nvPr>
            <p:ph type="ftr" idx="11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3" name="PlaceHolder 5"/>
          <p:cNvSpPr>
            <a:spLocks noGrp="1"/>
          </p:cNvSpPr>
          <p:nvPr>
            <p:ph type="sldNum" idx="12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069B7-7088-4CF9-9A2D-5AAFEE50B65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2"/>
    <p:sldLayoutId id="2147484157" r:id="rId3"/>
    <p:sldLayoutId id="2147484158" r:id="rId4"/>
    <p:sldLayoutId id="2147484159" r:id="rId5"/>
    <p:sldLayoutId id="2147484160" r:id="rId6"/>
    <p:sldLayoutId id="2147484161" r:id="rId7"/>
    <p:sldLayoutId id="2147484162" r:id="rId8"/>
    <p:sldLayoutId id="2147484163" r:id="rId9"/>
    <p:sldLayoutId id="2147484164" r:id="rId10"/>
    <p:sldLayoutId id="2147484165" r:id="rId11"/>
    <p:sldLayoutId id="2147484166" r:id="rId12"/>
    <p:sldLayoutId id="2147484167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375C7-2525-4AB9-AA70-495CBE4D32B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C6D5D-409A-468E-AFBC-E349B435E69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2429E-9D2D-4A02-8BBF-F3BE74E80838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15F43-D0DD-4601-94C8-5BB0972ABD2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4EA5A-5736-4F07-9D0A-F4F84D437AD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D6B32-00FE-467B-A945-5E868B03690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6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24.wmf"/><Relationship Id="rId6" Type="http://schemas.openxmlformats.org/officeDocument/2006/relationships/slideLayout" Target="../slideLayouts/slideLayout28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5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2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2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7" name="Picture 2" descr="0504102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48" name="TextBox 4"/>
          <p:cNvSpPr/>
          <p:nvPr/>
        </p:nvSpPr>
        <p:spPr>
          <a:xfrm>
            <a:off x="0" y="3429000"/>
            <a:ext cx="57150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9" name="TextBox 4"/>
          <p:cNvSpPr/>
          <p:nvPr/>
        </p:nvSpPr>
        <p:spPr>
          <a:xfrm>
            <a:off x="-6480" y="6019920"/>
            <a:ext cx="571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Work presented in collaboration with: Roger Smith, Jun Zhang and Mark Booth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0" name="TextBox 1"/>
          <p:cNvSpPr/>
          <p:nvPr/>
        </p:nvSpPr>
        <p:spPr>
          <a:xfrm>
            <a:off x="1431360" y="457200"/>
            <a:ext cx="628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New insights from GRIP/HS3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51" name="Picture 1" descr="mission_graphic-sm.png"/>
          <p:cNvPicPr/>
          <p:nvPr/>
        </p:nvPicPr>
        <p:blipFill>
          <a:blip r:embed="rId2"/>
          <a:stretch/>
        </p:blipFill>
        <p:spPr>
          <a:xfrm>
            <a:off x="0" y="3200400"/>
            <a:ext cx="3851280" cy="2666880"/>
          </a:xfrm>
          <a:prstGeom prst="rect">
            <a:avLst/>
          </a:prstGeom>
          <a:ln w="0">
            <a:noFill/>
          </a:ln>
        </p:spPr>
      </p:pic>
      <p:pic>
        <p:nvPicPr>
          <p:cNvPr id="1652" name="Picture 3" descr="002_GH_on_tarmac_DFRC.jpg"/>
          <p:cNvPicPr/>
          <p:nvPr/>
        </p:nvPicPr>
        <p:blipFill>
          <a:blip r:embed="rId3"/>
          <a:stretch/>
        </p:blipFill>
        <p:spPr>
          <a:xfrm>
            <a:off x="5562720" y="3352680"/>
            <a:ext cx="3181320" cy="2544840"/>
          </a:xfrm>
          <a:prstGeom prst="rect">
            <a:avLst/>
          </a:prstGeom>
          <a:ln w="0">
            <a:noFill/>
          </a:ln>
        </p:spPr>
      </p:pic>
      <p:sp>
        <p:nvSpPr>
          <p:cNvPr id="1653" name="TextBox 1"/>
          <p:cNvSpPr/>
          <p:nvPr/>
        </p:nvSpPr>
        <p:spPr>
          <a:xfrm>
            <a:off x="6939360" y="3581280"/>
            <a:ext cx="721800" cy="459720"/>
          </a:xfrm>
          <a:prstGeom prst="rect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HS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5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7E6BB-30CE-4418-B490-9DC6F9A489C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06" name="Picture 4" descr=""/>
          <p:cNvPicPr/>
          <p:nvPr/>
        </p:nvPicPr>
        <p:blipFill>
          <a:blip r:embed="rId1"/>
          <a:stretch/>
        </p:blipFill>
        <p:spPr>
          <a:xfrm>
            <a:off x="0" y="749160"/>
            <a:ext cx="9144000" cy="5346720"/>
          </a:xfrm>
          <a:prstGeom prst="rect">
            <a:avLst/>
          </a:prstGeom>
          <a:ln w="0">
            <a:noFill/>
          </a:ln>
        </p:spPr>
      </p:pic>
      <p:sp>
        <p:nvSpPr>
          <p:cNvPr id="1707" name="TextBox 5"/>
          <p:cNvSpPr/>
          <p:nvPr/>
        </p:nvSpPr>
        <p:spPr>
          <a:xfrm>
            <a:off x="2133720" y="0"/>
            <a:ext cx="52578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  <a:ea typeface="Osaka"/>
              </a:rPr>
              <a:t>Vertical profiles of Vt and Vr for Period 2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8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B5291-E857-48B0-9A37-BB7B134C3FD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09" name="Picture 4" descr=""/>
          <p:cNvPicPr/>
          <p:nvPr/>
        </p:nvPicPr>
        <p:blipFill>
          <a:blip r:embed="rId1"/>
          <a:stretch/>
        </p:blipFill>
        <p:spPr>
          <a:xfrm>
            <a:off x="228600" y="917640"/>
            <a:ext cx="8763120" cy="5559480"/>
          </a:xfrm>
          <a:prstGeom prst="rect">
            <a:avLst/>
          </a:prstGeom>
          <a:ln w="0">
            <a:noFill/>
          </a:ln>
        </p:spPr>
      </p:pic>
      <p:sp>
        <p:nvSpPr>
          <p:cNvPr id="1710" name="TextBox 5"/>
          <p:cNvSpPr/>
          <p:nvPr/>
        </p:nvSpPr>
        <p:spPr>
          <a:xfrm>
            <a:off x="2009520" y="228600"/>
            <a:ext cx="519768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  <a:ea typeface="Osaka"/>
              </a:rPr>
              <a:t>Vertical profiles of Vt and Vr for Period 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1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95978-F072-4038-BBEB-8D8B03A614A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12" name="Picture 4" descr=""/>
          <p:cNvPicPr/>
          <p:nvPr/>
        </p:nvPicPr>
        <p:blipFill>
          <a:blip r:embed="rId1"/>
          <a:stretch/>
        </p:blipFill>
        <p:spPr>
          <a:xfrm>
            <a:off x="1803240" y="203040"/>
            <a:ext cx="5524560" cy="643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3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6858000" cy="63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Gradient wind Vg at height of max Vt for periods 1 and 2 (Aug. 28 and 2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4" name="Picture 2" descr=""/>
          <p:cNvPicPr/>
          <p:nvPr/>
        </p:nvPicPr>
        <p:blipFill>
          <a:blip r:embed="rId1"/>
          <a:stretch/>
        </p:blipFill>
        <p:spPr>
          <a:xfrm>
            <a:off x="380880" y="820800"/>
            <a:ext cx="8305920" cy="6037200"/>
          </a:xfrm>
          <a:prstGeom prst="rect">
            <a:avLst/>
          </a:prstGeom>
          <a:ln w="0">
            <a:noFill/>
          </a:ln>
        </p:spPr>
      </p:pic>
      <p:sp>
        <p:nvSpPr>
          <p:cNvPr id="1715" name="TextBox 3"/>
          <p:cNvSpPr/>
          <p:nvPr/>
        </p:nvSpPr>
        <p:spPr>
          <a:xfrm>
            <a:off x="7848720" y="1219320"/>
            <a:ext cx="1839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16" name="Object 5"/>
              <p:cNvSpPr txBox="1"/>
              <p:nvPr/>
            </p:nvSpPr>
            <p:spPr>
              <a:xfrm>
                <a:off x="4514760" y="3346560"/>
                <a:ext cx="114480" cy="16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ρ</m:t>
                        </m:r>
                      </m:den>
                    </m:f>
                    <m:f>
                      <m:num>
                        <m:r>
                          <m:t xml:space="preserve">∂</m:t>
                        </m:r>
                        <m:r>
                          <m:t xml:space="preserve">p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r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fV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g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7" name="Object 6"/>
              <p:cNvSpPr txBox="1"/>
              <p:nvPr/>
            </p:nvSpPr>
            <p:spPr>
              <a:xfrm>
                <a:off x="7632720" y="1143000"/>
                <a:ext cx="10540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ρ</m:t>
                        </m:r>
                      </m:den>
                    </m:f>
                    <m:f>
                      <m:num>
                        <m:r>
                          <m:t xml:space="preserve">∂</m:t>
                        </m:r>
                        <m:r>
                          <m:t xml:space="preserve">p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r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fV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g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8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2F28F-7AB5-4701-BE0B-28431AC95B9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9" name="TextBox 4"/>
          <p:cNvSpPr/>
          <p:nvPr/>
        </p:nvSpPr>
        <p:spPr>
          <a:xfrm>
            <a:off x="990720" y="152280"/>
            <a:ext cx="6858000" cy="825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Osaka"/>
              </a:rPr>
              <a:t>Gradient wind at height of max Vt for periods 3 and 4 (Sept. 1 and 2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20" name="Picture 5" descr=""/>
          <p:cNvPicPr/>
          <p:nvPr/>
        </p:nvPicPr>
        <p:blipFill>
          <a:blip r:embed="rId1"/>
          <a:stretch/>
        </p:blipFill>
        <p:spPr>
          <a:xfrm>
            <a:off x="380880" y="990720"/>
            <a:ext cx="8382240" cy="57862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721" name="Object 6"/>
              <p:cNvSpPr txBox="1"/>
              <p:nvPr/>
            </p:nvSpPr>
            <p:spPr>
              <a:xfrm>
                <a:off x="7696080" y="1447920"/>
                <a:ext cx="10540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ρ</m:t>
                        </m:r>
                      </m:den>
                    </m:f>
                    <m:f>
                      <m:num>
                        <m:r>
                          <m:t xml:space="preserve">∂</m:t>
                        </m:r>
                        <m:r>
                          <m:t xml:space="preserve">p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r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fV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g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2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467840" cy="1295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Lessons learned Re low-level intensification of Earl (201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3" name=""/>
          <p:cNvSpPr txBox="1"/>
          <p:nvPr/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Maximum mean Vt is within the frictional boundary layer during the spin up ph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Supergradient mean Vt was found in the eyewall region at the height of maximum Vt during both spin up and maturit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These findings support in part the new intensification paradigm in which HBL plays an active role in dynam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4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5558C-FDC1-4333-8837-FFBE9B5A648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25" name="Picture 4" descr=""/>
          <p:cNvPicPr/>
          <p:nvPr/>
        </p:nvPicPr>
        <p:blipFill>
          <a:blip r:embed="rId1"/>
          <a:stretch/>
        </p:blipFill>
        <p:spPr>
          <a:xfrm>
            <a:off x="876240" y="0"/>
            <a:ext cx="7381800" cy="6858000"/>
          </a:xfrm>
          <a:prstGeom prst="rect">
            <a:avLst/>
          </a:prstGeom>
          <a:ln w="0">
            <a:noFill/>
          </a:ln>
        </p:spPr>
      </p:pic>
      <p:sp>
        <p:nvSpPr>
          <p:cNvPr id="1726" name="TextBox 5"/>
          <p:cNvSpPr/>
          <p:nvPr/>
        </p:nvSpPr>
        <p:spPr>
          <a:xfrm>
            <a:off x="1962720" y="76320"/>
            <a:ext cx="202788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Emanuel 1986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7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AC0A4-9E88-4A17-B9BD-D0F9715AC83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28" name="Picture 4" descr=""/>
          <p:cNvPicPr/>
          <p:nvPr/>
        </p:nvPicPr>
        <p:blipFill>
          <a:blip r:embed="rId1"/>
          <a:stretch/>
        </p:blipFill>
        <p:spPr>
          <a:xfrm>
            <a:off x="228600" y="457200"/>
            <a:ext cx="8610480" cy="6421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729" name="Object 7"/>
              <p:cNvSpPr txBox="1"/>
              <p:nvPr/>
            </p:nvSpPr>
            <p:spPr>
              <a:xfrm>
                <a:off x="4489560" y="3321000"/>
                <a:ext cx="1648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0" name="Object 9"/>
              <p:cNvSpPr txBox="1"/>
              <p:nvPr/>
            </p:nvSpPr>
            <p:spPr>
              <a:xfrm>
                <a:off x="990720" y="0"/>
                <a:ext cx="38088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731" name="TextBox 10"/>
          <p:cNvSpPr/>
          <p:nvPr/>
        </p:nvSpPr>
        <p:spPr>
          <a:xfrm>
            <a:off x="1235880" y="-4680"/>
            <a:ext cx="368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r) at z = 100 m and 1500 m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98507-8C06-4233-93C9-96954D8C17A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33" name="Picture 5" descr="Snap_2013.05.08_06h10m28s_001_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28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4" name="TextBox 1"/>
          <p:cNvSpPr/>
          <p:nvPr/>
        </p:nvSpPr>
        <p:spPr>
          <a:xfrm>
            <a:off x="304920" y="0"/>
            <a:ext cx="7848360" cy="10688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New dynamical and thermodynamical insights from GRIP/HS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5" name="TextBox 2"/>
          <p:cNvSpPr/>
          <p:nvPr/>
        </p:nvSpPr>
        <p:spPr>
          <a:xfrm>
            <a:off x="0" y="933480"/>
            <a:ext cx="10456920" cy="68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ヒラギノ明朝 ProN W3"/>
              </a:rPr>
              <a:t>Revised intensification model helps synthesize multi-scale observation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ヒラギノ明朝 ProN W3"/>
              </a:rPr>
              <a:t>and predicts new aspects of the intensification process. Observational data and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ヒラギノ明朝 ProN W3"/>
              </a:rPr>
              <a:t>analyses support the revised model, which predicts the maximum tangential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ヒラギノ明朝 ProN W3"/>
              </a:rPr>
              <a:t>velocity occurs persistently within the frictional BL and predicts the significant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ヒラギノ明朝 ProN W3"/>
              </a:rPr>
              <a:t>the generation of supergradient winds within but near the top of the BL.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2. In the azimuthally-averaged view, the revised model comprises the cooperativ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      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intensification mechanism (Ooyama) + BL spin up mechanism in conjunction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      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with moderately enhanced  surface moisture fluxes to maintain convectiv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      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instability in the developing core of the storm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      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3. Observations suggest that radial inflow is maximum near the surface, and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      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consistent with that of Bodewat boundary layer flow (Schlichting 1968, Ch. 11)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      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[Is `Log layer’ universal? No!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(This work is complementary to that of Neil Sanger et al. 2013 (MWR, accepted with minor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revision).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4" name="TextBox 5"/>
          <p:cNvSpPr/>
          <p:nvPr/>
        </p:nvSpPr>
        <p:spPr>
          <a:xfrm>
            <a:off x="457200" y="533520"/>
            <a:ext cx="7696080" cy="10688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Overarching NASA-HS3 Science Question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5" name="TextBox 6"/>
          <p:cNvSpPr/>
          <p:nvPr/>
        </p:nvSpPr>
        <p:spPr>
          <a:xfrm>
            <a:off x="561600" y="1676520"/>
            <a:ext cx="85305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How do hurricanes form?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What causes rapid intensity change?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What is the role of deep convection in intensification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What is the role of Saharan Air Layer (SAL) on intensity change? 1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6" name="TextBox 7"/>
          <p:cNvSpPr/>
          <p:nvPr/>
        </p:nvSpPr>
        <p:spPr>
          <a:xfrm>
            <a:off x="3406680" y="5791320"/>
            <a:ext cx="301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S. Braun and R. Kakar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ck up slides from 2012 HS3 mee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f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8" name="Text Box 29"/>
          <p:cNvSpPr/>
          <p:nvPr/>
        </p:nvSpPr>
        <p:spPr>
          <a:xfrm>
            <a:off x="7375680" y="6465960"/>
            <a:ext cx="312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90000" tIns="50760" bIns="5076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14CC7-2F76-4C9D-97F4-163E1A6D1DD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9" name="PlaceHolder 1"/>
          <p:cNvSpPr>
            <a:spLocks noGrp="1"/>
          </p:cNvSpPr>
          <p:nvPr>
            <p:ph type="title"/>
          </p:nvPr>
        </p:nvSpPr>
        <p:spPr>
          <a:xfrm>
            <a:off x="1294920" y="1676160"/>
            <a:ext cx="7162920" cy="2971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50760" rIns="1321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End of Presentation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Thank you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0" name="Text Box 5"/>
          <p:cNvSpPr/>
          <p:nvPr/>
        </p:nvSpPr>
        <p:spPr>
          <a:xfrm>
            <a:off x="478080" y="6095880"/>
            <a:ext cx="800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ＭＳ Ｐゴシック"/>
              </a:rPr>
              <a:t>Available at: http://www.meteo.physik.uni-muenchen.de\~roger\Pubs/M12A.pdf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41" name="Picture 3" descr="Snap1o.jpg"/>
          <p:cNvPicPr/>
          <p:nvPr/>
        </p:nvPicPr>
        <p:blipFill>
          <a:blip r:embed="rId1"/>
          <a:stretch/>
        </p:blipFill>
        <p:spPr>
          <a:xfrm>
            <a:off x="228600" y="609480"/>
            <a:ext cx="8747280" cy="4724640"/>
          </a:xfrm>
          <a:prstGeom prst="rect">
            <a:avLst/>
          </a:prstGeom>
          <a:ln w="0">
            <a:noFill/>
          </a:ln>
        </p:spPr>
      </p:pic>
      <p:pic>
        <p:nvPicPr>
          <p:cNvPr id="1742" name="Picture 3" descr="Snap4.png"/>
          <p:cNvPicPr/>
          <p:nvPr/>
        </p:nvPicPr>
        <p:blipFill>
          <a:blip r:embed="rId2"/>
          <a:stretch/>
        </p:blipFill>
        <p:spPr>
          <a:xfrm>
            <a:off x="3124080" y="1295280"/>
            <a:ext cx="3086280" cy="1181160"/>
          </a:xfrm>
          <a:prstGeom prst="rect">
            <a:avLst/>
          </a:prstGeom>
          <a:ln w="0">
            <a:noFill/>
          </a:ln>
        </p:spPr>
      </p:pic>
      <p:sp>
        <p:nvSpPr>
          <p:cNvPr id="1743" name="TextBox 4"/>
          <p:cNvSpPr/>
          <p:nvPr/>
        </p:nvSpPr>
        <p:spPr>
          <a:xfrm>
            <a:off x="6406200" y="1066680"/>
            <a:ext cx="898560" cy="368280"/>
          </a:xfrm>
          <a:prstGeom prst="rect">
            <a:avLst/>
          </a:prstGeom>
          <a:solidFill>
            <a:srgbClr val="def6f1"/>
          </a:solidFill>
          <a:ln w="9360">
            <a:solidFill>
              <a:srgbClr val="b2d1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Osaka"/>
              </a:rPr>
              <a:t>In pres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4" name="Rectangle 11"/>
          <p:cNvSpPr/>
          <p:nvPr/>
        </p:nvSpPr>
        <p:spPr>
          <a:xfrm>
            <a:off x="304920" y="304920"/>
            <a:ext cx="8534160" cy="6248160"/>
          </a:xfrm>
          <a:prstGeom prst="rect">
            <a:avLst/>
          </a:prstGeom>
          <a:solidFill>
            <a:srgbClr val="def6f1"/>
          </a:solidFill>
          <a:ln w="93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45" name="Picture 3" descr="Snap2.jpg"/>
          <p:cNvPicPr/>
          <p:nvPr/>
        </p:nvPicPr>
        <p:blipFill>
          <a:blip r:embed="rId1"/>
          <a:stretch/>
        </p:blipFill>
        <p:spPr>
          <a:xfrm>
            <a:off x="533520" y="533520"/>
            <a:ext cx="8067600" cy="5819760"/>
          </a:xfrm>
          <a:prstGeom prst="rect">
            <a:avLst/>
          </a:prstGeom>
          <a:ln w="0">
            <a:noFill/>
          </a:ln>
        </p:spPr>
      </p:pic>
      <p:sp>
        <p:nvSpPr>
          <p:cNvPr id="1746" name="TextBox 33"/>
          <p:cNvSpPr/>
          <p:nvPr/>
        </p:nvSpPr>
        <p:spPr>
          <a:xfrm>
            <a:off x="6257520" y="5638680"/>
            <a:ext cx="269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ＭＳ Ｐゴシック"/>
              </a:rPr>
              <a:t>v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7" name="TextBox 33"/>
          <p:cNvSpPr/>
          <p:nvPr/>
        </p:nvSpPr>
        <p:spPr>
          <a:xfrm>
            <a:off x="7552440" y="5638680"/>
            <a:ext cx="258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ＭＳ Ｐゴシック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8" name="TextBox 33"/>
          <p:cNvSpPr/>
          <p:nvPr/>
        </p:nvSpPr>
        <p:spPr>
          <a:xfrm>
            <a:off x="1914120" y="5638680"/>
            <a:ext cx="269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ＭＳ Ｐゴシック"/>
              </a:rPr>
              <a:t>v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9" name="TextBox 33"/>
          <p:cNvSpPr/>
          <p:nvPr/>
        </p:nvSpPr>
        <p:spPr>
          <a:xfrm>
            <a:off x="3209040" y="5638680"/>
            <a:ext cx="258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ＭＳ Ｐゴシック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50" name="Object 1"/>
              <p:cNvSpPr txBox="1"/>
              <p:nvPr/>
            </p:nvSpPr>
            <p:spPr>
              <a:xfrm>
                <a:off x="4508640" y="3340080"/>
                <a:ext cx="12672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1" name="Object 3"/>
              <p:cNvSpPr txBox="1"/>
              <p:nvPr/>
            </p:nvSpPr>
            <p:spPr>
              <a:xfrm>
                <a:off x="3124080" y="5648400"/>
                <a:ext cx="228600" cy="32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2" name="Object 10"/>
              <p:cNvSpPr txBox="1"/>
              <p:nvPr/>
            </p:nvSpPr>
            <p:spPr>
              <a:xfrm>
                <a:off x="7467480" y="5638680"/>
                <a:ext cx="228600" cy="32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3" name="Object 11"/>
              <p:cNvSpPr txBox="1"/>
              <p:nvPr/>
            </p:nvSpPr>
            <p:spPr>
              <a:xfrm>
                <a:off x="6172200" y="5638680"/>
                <a:ext cx="228600" cy="32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4" name="Object 12"/>
              <p:cNvSpPr txBox="1"/>
              <p:nvPr/>
            </p:nvSpPr>
            <p:spPr>
              <a:xfrm>
                <a:off x="1828800" y="5638680"/>
                <a:ext cx="228600" cy="32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5" name="Rectangle 5"/>
          <p:cNvSpPr/>
          <p:nvPr/>
        </p:nvSpPr>
        <p:spPr>
          <a:xfrm>
            <a:off x="152280" y="228600"/>
            <a:ext cx="8839440" cy="632448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56" name="Picture 5" descr="Snap3o.jpg"/>
          <p:cNvPicPr/>
          <p:nvPr/>
        </p:nvPicPr>
        <p:blipFill>
          <a:blip r:embed="rId1"/>
          <a:stretch/>
        </p:blipFill>
        <p:spPr>
          <a:xfrm>
            <a:off x="914400" y="1752480"/>
            <a:ext cx="7315200" cy="1152720"/>
          </a:xfrm>
          <a:prstGeom prst="rect">
            <a:avLst/>
          </a:prstGeom>
          <a:ln w="0">
            <a:noFill/>
          </a:ln>
        </p:spPr>
      </p:pic>
      <p:pic>
        <p:nvPicPr>
          <p:cNvPr id="1757" name="Picture 6" descr="Snap4.jpg"/>
          <p:cNvPicPr/>
          <p:nvPr/>
        </p:nvPicPr>
        <p:blipFill>
          <a:blip r:embed="rId2"/>
          <a:stretch/>
        </p:blipFill>
        <p:spPr>
          <a:xfrm>
            <a:off x="304920" y="4056120"/>
            <a:ext cx="8686800" cy="1025640"/>
          </a:xfrm>
          <a:prstGeom prst="rect">
            <a:avLst/>
          </a:prstGeom>
          <a:ln w="0">
            <a:noFill/>
          </a:ln>
        </p:spPr>
      </p:pic>
      <p:pic>
        <p:nvPicPr>
          <p:cNvPr id="1758" name="Picture 7" descr="Snap5.jpg"/>
          <p:cNvPicPr/>
          <p:nvPr/>
        </p:nvPicPr>
        <p:blipFill>
          <a:blip r:embed="rId3"/>
          <a:stretch/>
        </p:blipFill>
        <p:spPr>
          <a:xfrm>
            <a:off x="4876920" y="3276720"/>
            <a:ext cx="2200320" cy="504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59" name="Object 5"/>
          <p:cNvGraphicFramePr/>
          <p:nvPr/>
        </p:nvGraphicFramePr>
        <p:xfrm>
          <a:off x="609480" y="380880"/>
          <a:ext cx="2159280" cy="10670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760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09480" y="380880"/>
                    <a:ext cx="2159280" cy="106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1" name="Right Arrow 6"/>
          <p:cNvSpPr/>
          <p:nvPr/>
        </p:nvSpPr>
        <p:spPr>
          <a:xfrm>
            <a:off x="3200400" y="685800"/>
            <a:ext cx="685800" cy="4572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2" name="TextBox 7"/>
          <p:cNvSpPr/>
          <p:nvPr/>
        </p:nvSpPr>
        <p:spPr>
          <a:xfrm>
            <a:off x="3966840" y="3276720"/>
            <a:ext cx="62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ＭＳ Ｐゴシック"/>
              </a:rPr>
              <a:t>pu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3" name="Left Brace 8"/>
          <p:cNvSpPr/>
          <p:nvPr/>
        </p:nvSpPr>
        <p:spPr>
          <a:xfrm rot="16200000">
            <a:off x="3466800" y="4076640"/>
            <a:ext cx="457200" cy="2514600"/>
          </a:xfrm>
          <a:custGeom>
            <a:avLst/>
            <a:gdLst>
              <a:gd name="textAreaLeft" fmla="*/ 292320 w 457200"/>
              <a:gd name="textAreaRight" fmla="*/ 457560 w 457200"/>
              <a:gd name="textAreaTop" fmla="*/ 11880 h 2514600"/>
              <a:gd name="textAreaBottom" fmla="*/ 2502720 h 2514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64"/>
                  <a:pt x="10800" y="327"/>
                </a:cubicBezTo>
                <a:lnTo>
                  <a:pt x="10800" y="10473"/>
                </a:lnTo>
                <a:cubicBezTo>
                  <a:pt x="10800" y="10637"/>
                  <a:pt x="5400" y="10800"/>
                  <a:pt x="0" y="10800"/>
                </a:cubicBezTo>
                <a:cubicBezTo>
                  <a:pt x="5400" y="10800"/>
                  <a:pt x="10800" y="10964"/>
                  <a:pt x="10800" y="11127"/>
                </a:cubicBezTo>
                <a:lnTo>
                  <a:pt x="10800" y="21273"/>
                </a:lnTo>
                <a:cubicBezTo>
                  <a:pt x="10800" y="21437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4" name="Left Brace 9"/>
          <p:cNvSpPr/>
          <p:nvPr/>
        </p:nvSpPr>
        <p:spPr>
          <a:xfrm rot="16200000">
            <a:off x="6438600" y="4076640"/>
            <a:ext cx="457200" cy="2514600"/>
          </a:xfrm>
          <a:custGeom>
            <a:avLst/>
            <a:gdLst>
              <a:gd name="textAreaLeft" fmla="*/ 292320 w 457200"/>
              <a:gd name="textAreaRight" fmla="*/ 457560 w 457200"/>
              <a:gd name="textAreaTop" fmla="*/ 11880 h 2514600"/>
              <a:gd name="textAreaBottom" fmla="*/ 2502720 h 2514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64"/>
                  <a:pt x="10800" y="327"/>
                </a:cubicBezTo>
                <a:lnTo>
                  <a:pt x="10800" y="10473"/>
                </a:lnTo>
                <a:cubicBezTo>
                  <a:pt x="10800" y="10637"/>
                  <a:pt x="5400" y="10800"/>
                  <a:pt x="0" y="10800"/>
                </a:cubicBezTo>
                <a:cubicBezTo>
                  <a:pt x="5400" y="10800"/>
                  <a:pt x="10800" y="10964"/>
                  <a:pt x="10800" y="11127"/>
                </a:cubicBezTo>
                <a:lnTo>
                  <a:pt x="10800" y="21273"/>
                </a:lnTo>
                <a:cubicBezTo>
                  <a:pt x="10800" y="21437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5" name="TextBox 10"/>
          <p:cNvSpPr/>
          <p:nvPr/>
        </p:nvSpPr>
        <p:spPr>
          <a:xfrm>
            <a:off x="1395360" y="5638680"/>
            <a:ext cx="8618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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  <a:ea typeface="ＭＳ Ｐゴシック"/>
              </a:rPr>
              <a:t>e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6" name="TextBox 11"/>
          <p:cNvSpPr/>
          <p:nvPr/>
        </p:nvSpPr>
        <p:spPr>
          <a:xfrm>
            <a:off x="3300480" y="5638680"/>
            <a:ext cx="8618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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  <a:ea typeface="ＭＳ Ｐゴシック"/>
              </a:rPr>
              <a:t>e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7" name="TextBox 12"/>
          <p:cNvSpPr/>
          <p:nvPr/>
        </p:nvSpPr>
        <p:spPr>
          <a:xfrm>
            <a:off x="6272280" y="5638680"/>
            <a:ext cx="8618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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  <a:ea typeface="ＭＳ Ｐゴシック"/>
              </a:rPr>
              <a:t>e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8" name="Rectangle 12"/>
          <p:cNvSpPr/>
          <p:nvPr/>
        </p:nvSpPr>
        <p:spPr>
          <a:xfrm>
            <a:off x="0" y="609480"/>
            <a:ext cx="9144000" cy="3810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9" name="Rectangle 2"/>
          <p:cNvSpPr/>
          <p:nvPr/>
        </p:nvSpPr>
        <p:spPr>
          <a:xfrm>
            <a:off x="5029200" y="3581280"/>
            <a:ext cx="41148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0" name="TextBox 3"/>
          <p:cNvSpPr/>
          <p:nvPr/>
        </p:nvSpPr>
        <p:spPr>
          <a:xfrm>
            <a:off x="1849320" y="5105520"/>
            <a:ext cx="5318280" cy="581400"/>
          </a:xfrm>
          <a:prstGeom prst="rect">
            <a:avLst/>
          </a:prstGeom>
          <a:solidFill>
            <a:srgbClr val="ffff00"/>
          </a:solidFill>
          <a:ln w="9360">
            <a:solidFill>
              <a:srgbClr val="787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ＭＳ Ｐゴシック"/>
              </a:rPr>
              <a:t>What do observations tell u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71" name="Picture 4" descr="Snap5.png"/>
          <p:cNvPicPr/>
          <p:nvPr/>
        </p:nvPicPr>
        <p:blipFill>
          <a:blip r:embed="rId1"/>
          <a:stretch/>
        </p:blipFill>
        <p:spPr>
          <a:xfrm>
            <a:off x="0" y="762120"/>
            <a:ext cx="9144000" cy="3390840"/>
          </a:xfrm>
          <a:prstGeom prst="rect">
            <a:avLst/>
          </a:prstGeom>
          <a:ln w="0">
            <a:noFill/>
          </a:ln>
        </p:spPr>
      </p:pic>
      <p:sp>
        <p:nvSpPr>
          <p:cNvPr id="1772" name="Straight Connector 6"/>
          <p:cNvSpPr/>
          <p:nvPr/>
        </p:nvSpPr>
        <p:spPr>
          <a:xfrm>
            <a:off x="7848720" y="1143000"/>
            <a:ext cx="1295280" cy="144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3" name="Straight Connector 7"/>
          <p:cNvSpPr/>
          <p:nvPr/>
        </p:nvSpPr>
        <p:spPr>
          <a:xfrm>
            <a:off x="0" y="1600200"/>
            <a:ext cx="2666880" cy="144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4" name="Straight Connector 9"/>
          <p:cNvSpPr/>
          <p:nvPr/>
        </p:nvSpPr>
        <p:spPr>
          <a:xfrm>
            <a:off x="3505320" y="1600200"/>
            <a:ext cx="914400" cy="144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5" name="Rectangle 11"/>
          <p:cNvSpPr/>
          <p:nvPr/>
        </p:nvSpPr>
        <p:spPr>
          <a:xfrm>
            <a:off x="5029200" y="3809880"/>
            <a:ext cx="411480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7" name="TextBox 3"/>
          <p:cNvSpPr/>
          <p:nvPr/>
        </p:nvSpPr>
        <p:spPr>
          <a:xfrm>
            <a:off x="457200" y="76320"/>
            <a:ext cx="8381880" cy="10688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Highlights of our work relevant to addressing the first three ques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8" name="TextBox 4"/>
          <p:cNvSpPr/>
          <p:nvPr/>
        </p:nvSpPr>
        <p:spPr>
          <a:xfrm>
            <a:off x="382320" y="1295280"/>
            <a:ext cx="8771400" cy="53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Thermodynamic environment of developing and non-developing disturbances during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PREDICT and GRIP (Smith and Montgomery 2012, QJRM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How important is the isothermal expansion effect in elevating theta_e in the hurrican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inner-core? (Smith and Montgomery 2013, QJRM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** Analysis of dynamical and thermodynamical structure during the evolution of Earl (2010)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(Montgomery, Zhang and Smith 2013, QJRMS, in review) **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Developed new model of secondary eyewall formation that can be tested with HS3 data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(Abarca and Montgomery 2013, JAS, in press; see poster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Obtained new insight on the dynamics and predictability of the tropical cyclogenesis of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Hurricane Sandy (2013). These findings can be applied to other Atlantic and Caribbean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tropical disturbances (Lussier, Rutherford, Montgomery, Dunkerton and Boothe, 2013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see poster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Developing new insight into processes supporting the longevity of Tropical storm/Hurrican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Nadie (Rutherford, Dunkerton and Montgomery; see poster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2"/>
          <p:cNvSpPr/>
          <p:nvPr/>
        </p:nvSpPr>
        <p:spPr>
          <a:xfrm>
            <a:off x="228600" y="1219320"/>
            <a:ext cx="8763120" cy="46479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0" name="AutoShape 3"/>
          <p:cNvSpPr/>
          <p:nvPr/>
        </p:nvSpPr>
        <p:spPr>
          <a:xfrm>
            <a:off x="4343400" y="4191120"/>
            <a:ext cx="762120" cy="380880"/>
          </a:xfrm>
          <a:prstGeom prst="leftArrow">
            <a:avLst>
              <a:gd name="adj1" fmla="val 50000"/>
              <a:gd name="adj2" fmla="val 50024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1" name="AutoShape 4"/>
          <p:cNvSpPr/>
          <p:nvPr/>
        </p:nvSpPr>
        <p:spPr>
          <a:xfrm>
            <a:off x="2743200" y="5029200"/>
            <a:ext cx="3124080" cy="152280"/>
          </a:xfrm>
          <a:prstGeom prst="leftArrow">
            <a:avLst>
              <a:gd name="adj1" fmla="val 50000"/>
              <a:gd name="adj2" fmla="val 512884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2" name="Freeform 5"/>
          <p:cNvSpPr/>
          <p:nvPr/>
        </p:nvSpPr>
        <p:spPr>
          <a:xfrm>
            <a:off x="2209680" y="1752480"/>
            <a:ext cx="5918400" cy="3337200"/>
          </a:xfrm>
          <a:custGeom>
            <a:avLst/>
            <a:gdLst>
              <a:gd name="textAreaLeft" fmla="*/ 0 w 5918400"/>
              <a:gd name="textAreaRight" fmla="*/ 5918760 w 5918400"/>
              <a:gd name="textAreaTop" fmla="*/ 0 h 3337200"/>
              <a:gd name="textAreaBottom" fmla="*/ 3337560 h 3337200"/>
            </a:gdLst>
            <a:ahLst/>
            <a:rect l="textAreaLeft" t="textAreaTop" r="textAreaRight" b="textAreaBottom"/>
            <a:pathLst>
              <a:path w="3728" h="2102">
                <a:moveTo>
                  <a:pt x="488" y="2054"/>
                </a:moveTo>
                <a:cubicBezTo>
                  <a:pt x="412" y="2048"/>
                  <a:pt x="335" y="2062"/>
                  <a:pt x="264" y="2038"/>
                </a:cubicBezTo>
                <a:cubicBezTo>
                  <a:pt x="226" y="2063"/>
                  <a:pt x="175" y="2042"/>
                  <a:pt x="128" y="2038"/>
                </a:cubicBezTo>
                <a:cubicBezTo>
                  <a:pt x="112" y="2041"/>
                  <a:pt x="96" y="2042"/>
                  <a:pt x="80" y="2046"/>
                </a:cubicBezTo>
                <a:cubicBezTo>
                  <a:pt x="72" y="2048"/>
                  <a:pt x="64" y="2058"/>
                  <a:pt x="56" y="2054"/>
                </a:cubicBezTo>
                <a:cubicBezTo>
                  <a:pt x="48" y="2050"/>
                  <a:pt x="51" y="2038"/>
                  <a:pt x="48" y="2030"/>
                </a:cubicBezTo>
                <a:cubicBezTo>
                  <a:pt x="67" y="1973"/>
                  <a:pt x="78" y="1991"/>
                  <a:pt x="40" y="1966"/>
                </a:cubicBezTo>
                <a:cubicBezTo>
                  <a:pt x="35" y="1943"/>
                  <a:pt x="31" y="1917"/>
                  <a:pt x="24" y="1894"/>
                </a:cubicBezTo>
                <a:cubicBezTo>
                  <a:pt x="19" y="1878"/>
                  <a:pt x="8" y="1846"/>
                  <a:pt x="8" y="1846"/>
                </a:cubicBezTo>
                <a:cubicBezTo>
                  <a:pt x="11" y="1838"/>
                  <a:pt x="11" y="1829"/>
                  <a:pt x="16" y="1822"/>
                </a:cubicBezTo>
                <a:cubicBezTo>
                  <a:pt x="22" y="1814"/>
                  <a:pt x="36" y="1815"/>
                  <a:pt x="40" y="1806"/>
                </a:cubicBezTo>
                <a:cubicBezTo>
                  <a:pt x="50" y="1781"/>
                  <a:pt x="0" y="1734"/>
                  <a:pt x="0" y="1734"/>
                </a:cubicBezTo>
                <a:cubicBezTo>
                  <a:pt x="3" y="1698"/>
                  <a:pt x="21" y="1636"/>
                  <a:pt x="8" y="1598"/>
                </a:cubicBezTo>
                <a:cubicBezTo>
                  <a:pt x="17" y="1554"/>
                  <a:pt x="32" y="1510"/>
                  <a:pt x="64" y="1478"/>
                </a:cubicBezTo>
                <a:cubicBezTo>
                  <a:pt x="67" y="1470"/>
                  <a:pt x="75" y="1462"/>
                  <a:pt x="72" y="1454"/>
                </a:cubicBezTo>
                <a:cubicBezTo>
                  <a:pt x="66" y="1436"/>
                  <a:pt x="40" y="1406"/>
                  <a:pt x="40" y="1406"/>
                </a:cubicBezTo>
                <a:cubicBezTo>
                  <a:pt x="37" y="1387"/>
                  <a:pt x="32" y="1369"/>
                  <a:pt x="32" y="1350"/>
                </a:cubicBezTo>
                <a:cubicBezTo>
                  <a:pt x="32" y="1283"/>
                  <a:pt x="94" y="1250"/>
                  <a:pt x="120" y="1198"/>
                </a:cubicBezTo>
                <a:cubicBezTo>
                  <a:pt x="131" y="1175"/>
                  <a:pt x="130" y="1151"/>
                  <a:pt x="136" y="1126"/>
                </a:cubicBezTo>
                <a:cubicBezTo>
                  <a:pt x="140" y="1110"/>
                  <a:pt x="152" y="1078"/>
                  <a:pt x="152" y="1078"/>
                </a:cubicBezTo>
                <a:cubicBezTo>
                  <a:pt x="143" y="1032"/>
                  <a:pt x="133" y="967"/>
                  <a:pt x="184" y="950"/>
                </a:cubicBezTo>
                <a:cubicBezTo>
                  <a:pt x="191" y="929"/>
                  <a:pt x="192" y="907"/>
                  <a:pt x="200" y="886"/>
                </a:cubicBezTo>
                <a:cubicBezTo>
                  <a:pt x="203" y="877"/>
                  <a:pt x="212" y="871"/>
                  <a:pt x="216" y="862"/>
                </a:cubicBezTo>
                <a:cubicBezTo>
                  <a:pt x="222" y="851"/>
                  <a:pt x="229" y="816"/>
                  <a:pt x="232" y="806"/>
                </a:cubicBezTo>
                <a:cubicBezTo>
                  <a:pt x="229" y="798"/>
                  <a:pt x="224" y="790"/>
                  <a:pt x="224" y="782"/>
                </a:cubicBezTo>
                <a:cubicBezTo>
                  <a:pt x="224" y="774"/>
                  <a:pt x="233" y="766"/>
                  <a:pt x="232" y="758"/>
                </a:cubicBezTo>
                <a:cubicBezTo>
                  <a:pt x="230" y="741"/>
                  <a:pt x="221" y="726"/>
                  <a:pt x="216" y="710"/>
                </a:cubicBezTo>
                <a:cubicBezTo>
                  <a:pt x="213" y="702"/>
                  <a:pt x="208" y="686"/>
                  <a:pt x="208" y="686"/>
                </a:cubicBezTo>
                <a:cubicBezTo>
                  <a:pt x="220" y="591"/>
                  <a:pt x="215" y="617"/>
                  <a:pt x="280" y="574"/>
                </a:cubicBezTo>
                <a:cubicBezTo>
                  <a:pt x="291" y="542"/>
                  <a:pt x="305" y="536"/>
                  <a:pt x="336" y="526"/>
                </a:cubicBezTo>
                <a:cubicBezTo>
                  <a:pt x="330" y="509"/>
                  <a:pt x="312" y="496"/>
                  <a:pt x="312" y="478"/>
                </a:cubicBezTo>
                <a:cubicBezTo>
                  <a:pt x="312" y="431"/>
                  <a:pt x="387" y="399"/>
                  <a:pt x="424" y="390"/>
                </a:cubicBezTo>
                <a:cubicBezTo>
                  <a:pt x="455" y="382"/>
                  <a:pt x="520" y="374"/>
                  <a:pt x="520" y="374"/>
                </a:cubicBezTo>
                <a:cubicBezTo>
                  <a:pt x="468" y="218"/>
                  <a:pt x="628" y="275"/>
                  <a:pt x="776" y="270"/>
                </a:cubicBezTo>
                <a:cubicBezTo>
                  <a:pt x="758" y="243"/>
                  <a:pt x="738" y="221"/>
                  <a:pt x="728" y="190"/>
                </a:cubicBezTo>
                <a:cubicBezTo>
                  <a:pt x="747" y="113"/>
                  <a:pt x="834" y="145"/>
                  <a:pt x="912" y="142"/>
                </a:cubicBezTo>
                <a:cubicBezTo>
                  <a:pt x="1387" y="123"/>
                  <a:pt x="955" y="144"/>
                  <a:pt x="1304" y="126"/>
                </a:cubicBezTo>
                <a:cubicBezTo>
                  <a:pt x="1340" y="18"/>
                  <a:pt x="1556" y="80"/>
                  <a:pt x="1608" y="78"/>
                </a:cubicBezTo>
                <a:cubicBezTo>
                  <a:pt x="1730" y="37"/>
                  <a:pt x="1870" y="45"/>
                  <a:pt x="1992" y="86"/>
                </a:cubicBezTo>
                <a:cubicBezTo>
                  <a:pt x="2032" y="83"/>
                  <a:pt x="2072" y="81"/>
                  <a:pt x="2112" y="78"/>
                </a:cubicBezTo>
                <a:cubicBezTo>
                  <a:pt x="2184" y="73"/>
                  <a:pt x="2328" y="62"/>
                  <a:pt x="2328" y="62"/>
                </a:cubicBezTo>
                <a:cubicBezTo>
                  <a:pt x="2422" y="0"/>
                  <a:pt x="2543" y="65"/>
                  <a:pt x="2648" y="30"/>
                </a:cubicBezTo>
                <a:cubicBezTo>
                  <a:pt x="2671" y="38"/>
                  <a:pt x="2682" y="37"/>
                  <a:pt x="2696" y="62"/>
                </a:cubicBezTo>
                <a:cubicBezTo>
                  <a:pt x="2722" y="107"/>
                  <a:pt x="2681" y="86"/>
                  <a:pt x="2728" y="102"/>
                </a:cubicBezTo>
                <a:cubicBezTo>
                  <a:pt x="2736" y="99"/>
                  <a:pt x="2746" y="100"/>
                  <a:pt x="2752" y="94"/>
                </a:cubicBezTo>
                <a:cubicBezTo>
                  <a:pt x="2760" y="86"/>
                  <a:pt x="2758" y="68"/>
                  <a:pt x="2768" y="62"/>
                </a:cubicBezTo>
                <a:cubicBezTo>
                  <a:pt x="2775" y="58"/>
                  <a:pt x="2784" y="69"/>
                  <a:pt x="2792" y="70"/>
                </a:cubicBezTo>
                <a:cubicBezTo>
                  <a:pt x="2821" y="74"/>
                  <a:pt x="2851" y="75"/>
                  <a:pt x="2880" y="78"/>
                </a:cubicBezTo>
                <a:cubicBezTo>
                  <a:pt x="2914" y="89"/>
                  <a:pt x="2942" y="81"/>
                  <a:pt x="2976" y="70"/>
                </a:cubicBezTo>
                <a:cubicBezTo>
                  <a:pt x="3016" y="73"/>
                  <a:pt x="3056" y="71"/>
                  <a:pt x="3096" y="78"/>
                </a:cubicBezTo>
                <a:cubicBezTo>
                  <a:pt x="3105" y="80"/>
                  <a:pt x="3110" y="93"/>
                  <a:pt x="3120" y="94"/>
                </a:cubicBezTo>
                <a:cubicBezTo>
                  <a:pt x="3157" y="99"/>
                  <a:pt x="3202" y="74"/>
                  <a:pt x="3232" y="54"/>
                </a:cubicBezTo>
                <a:cubicBezTo>
                  <a:pt x="3264" y="57"/>
                  <a:pt x="3297" y="53"/>
                  <a:pt x="3328" y="62"/>
                </a:cubicBezTo>
                <a:cubicBezTo>
                  <a:pt x="3383" y="79"/>
                  <a:pt x="3283" y="104"/>
                  <a:pt x="3360" y="78"/>
                </a:cubicBezTo>
                <a:cubicBezTo>
                  <a:pt x="3389" y="88"/>
                  <a:pt x="3414" y="93"/>
                  <a:pt x="3440" y="110"/>
                </a:cubicBezTo>
                <a:cubicBezTo>
                  <a:pt x="3476" y="98"/>
                  <a:pt x="3491" y="102"/>
                  <a:pt x="3512" y="134"/>
                </a:cubicBezTo>
                <a:cubicBezTo>
                  <a:pt x="3525" y="131"/>
                  <a:pt x="3539" y="130"/>
                  <a:pt x="3552" y="126"/>
                </a:cubicBezTo>
                <a:cubicBezTo>
                  <a:pt x="3568" y="122"/>
                  <a:pt x="3600" y="110"/>
                  <a:pt x="3600" y="110"/>
                </a:cubicBezTo>
                <a:cubicBezTo>
                  <a:pt x="3614" y="152"/>
                  <a:pt x="3609" y="180"/>
                  <a:pt x="3648" y="206"/>
                </a:cubicBezTo>
                <a:cubicBezTo>
                  <a:pt x="3656" y="203"/>
                  <a:pt x="3664" y="194"/>
                  <a:pt x="3672" y="198"/>
                </a:cubicBezTo>
                <a:cubicBezTo>
                  <a:pt x="3680" y="202"/>
                  <a:pt x="3677" y="214"/>
                  <a:pt x="3680" y="222"/>
                </a:cubicBezTo>
                <a:cubicBezTo>
                  <a:pt x="3694" y="259"/>
                  <a:pt x="3716" y="289"/>
                  <a:pt x="3728" y="326"/>
                </a:cubicBezTo>
                <a:cubicBezTo>
                  <a:pt x="3726" y="346"/>
                  <a:pt x="3714" y="439"/>
                  <a:pt x="3696" y="462"/>
                </a:cubicBezTo>
                <a:cubicBezTo>
                  <a:pt x="3683" y="478"/>
                  <a:pt x="3656" y="474"/>
                  <a:pt x="3640" y="486"/>
                </a:cubicBezTo>
                <a:cubicBezTo>
                  <a:pt x="3617" y="503"/>
                  <a:pt x="3599" y="525"/>
                  <a:pt x="3576" y="542"/>
                </a:cubicBezTo>
                <a:cubicBezTo>
                  <a:pt x="3568" y="555"/>
                  <a:pt x="3559" y="568"/>
                  <a:pt x="3552" y="582"/>
                </a:cubicBezTo>
                <a:cubicBezTo>
                  <a:pt x="3548" y="590"/>
                  <a:pt x="3552" y="603"/>
                  <a:pt x="3544" y="606"/>
                </a:cubicBezTo>
                <a:cubicBezTo>
                  <a:pt x="3540" y="607"/>
                  <a:pt x="3480" y="592"/>
                  <a:pt x="3472" y="590"/>
                </a:cubicBezTo>
                <a:cubicBezTo>
                  <a:pt x="3435" y="593"/>
                  <a:pt x="3397" y="592"/>
                  <a:pt x="3360" y="598"/>
                </a:cubicBezTo>
                <a:cubicBezTo>
                  <a:pt x="3343" y="601"/>
                  <a:pt x="3312" y="614"/>
                  <a:pt x="3312" y="614"/>
                </a:cubicBezTo>
                <a:cubicBezTo>
                  <a:pt x="3214" y="600"/>
                  <a:pt x="3080" y="564"/>
                  <a:pt x="2992" y="622"/>
                </a:cubicBezTo>
                <a:cubicBezTo>
                  <a:pt x="2950" y="567"/>
                  <a:pt x="2929" y="583"/>
                  <a:pt x="2856" y="590"/>
                </a:cubicBezTo>
                <a:cubicBezTo>
                  <a:pt x="2837" y="603"/>
                  <a:pt x="2822" y="624"/>
                  <a:pt x="2800" y="630"/>
                </a:cubicBezTo>
                <a:cubicBezTo>
                  <a:pt x="2796" y="631"/>
                  <a:pt x="2730" y="601"/>
                  <a:pt x="2720" y="598"/>
                </a:cubicBezTo>
                <a:cubicBezTo>
                  <a:pt x="2661" y="601"/>
                  <a:pt x="2602" y="600"/>
                  <a:pt x="2544" y="606"/>
                </a:cubicBezTo>
                <a:cubicBezTo>
                  <a:pt x="2522" y="608"/>
                  <a:pt x="2480" y="622"/>
                  <a:pt x="2480" y="622"/>
                </a:cubicBezTo>
                <a:cubicBezTo>
                  <a:pt x="2450" y="612"/>
                  <a:pt x="2422" y="600"/>
                  <a:pt x="2392" y="590"/>
                </a:cubicBezTo>
                <a:cubicBezTo>
                  <a:pt x="2331" y="593"/>
                  <a:pt x="2268" y="612"/>
                  <a:pt x="2208" y="598"/>
                </a:cubicBezTo>
                <a:cubicBezTo>
                  <a:pt x="2189" y="593"/>
                  <a:pt x="2201" y="559"/>
                  <a:pt x="2192" y="542"/>
                </a:cubicBezTo>
                <a:cubicBezTo>
                  <a:pt x="2185" y="529"/>
                  <a:pt x="2156" y="522"/>
                  <a:pt x="2144" y="518"/>
                </a:cubicBezTo>
                <a:cubicBezTo>
                  <a:pt x="1932" y="527"/>
                  <a:pt x="1861" y="525"/>
                  <a:pt x="1632" y="518"/>
                </a:cubicBezTo>
                <a:cubicBezTo>
                  <a:pt x="1600" y="422"/>
                  <a:pt x="1523" y="473"/>
                  <a:pt x="1416" y="478"/>
                </a:cubicBezTo>
                <a:cubicBezTo>
                  <a:pt x="1405" y="486"/>
                  <a:pt x="1393" y="493"/>
                  <a:pt x="1384" y="502"/>
                </a:cubicBezTo>
                <a:cubicBezTo>
                  <a:pt x="1356" y="530"/>
                  <a:pt x="1384" y="531"/>
                  <a:pt x="1344" y="518"/>
                </a:cubicBezTo>
                <a:cubicBezTo>
                  <a:pt x="1149" y="525"/>
                  <a:pt x="1145" y="506"/>
                  <a:pt x="1024" y="566"/>
                </a:cubicBezTo>
                <a:cubicBezTo>
                  <a:pt x="1029" y="574"/>
                  <a:pt x="1042" y="581"/>
                  <a:pt x="1040" y="590"/>
                </a:cubicBezTo>
                <a:cubicBezTo>
                  <a:pt x="1038" y="598"/>
                  <a:pt x="1024" y="596"/>
                  <a:pt x="1016" y="598"/>
                </a:cubicBezTo>
                <a:cubicBezTo>
                  <a:pt x="995" y="604"/>
                  <a:pt x="973" y="609"/>
                  <a:pt x="952" y="614"/>
                </a:cubicBezTo>
                <a:cubicBezTo>
                  <a:pt x="923" y="631"/>
                  <a:pt x="909" y="632"/>
                  <a:pt x="896" y="662"/>
                </a:cubicBezTo>
                <a:cubicBezTo>
                  <a:pt x="880" y="699"/>
                  <a:pt x="892" y="710"/>
                  <a:pt x="856" y="734"/>
                </a:cubicBezTo>
                <a:cubicBezTo>
                  <a:pt x="844" y="770"/>
                  <a:pt x="775" y="871"/>
                  <a:pt x="744" y="902"/>
                </a:cubicBezTo>
                <a:cubicBezTo>
                  <a:pt x="722" y="990"/>
                  <a:pt x="749" y="1005"/>
                  <a:pt x="824" y="1030"/>
                </a:cubicBezTo>
                <a:cubicBezTo>
                  <a:pt x="767" y="1044"/>
                  <a:pt x="767" y="1055"/>
                  <a:pt x="720" y="1086"/>
                </a:cubicBezTo>
                <a:cubicBezTo>
                  <a:pt x="689" y="1132"/>
                  <a:pt x="712" y="1086"/>
                  <a:pt x="712" y="1158"/>
                </a:cubicBezTo>
                <a:cubicBezTo>
                  <a:pt x="712" y="1192"/>
                  <a:pt x="682" y="1221"/>
                  <a:pt x="656" y="1238"/>
                </a:cubicBezTo>
                <a:cubicBezTo>
                  <a:pt x="643" y="1278"/>
                  <a:pt x="640" y="1314"/>
                  <a:pt x="616" y="1350"/>
                </a:cubicBezTo>
                <a:cubicBezTo>
                  <a:pt x="602" y="1404"/>
                  <a:pt x="604" y="1461"/>
                  <a:pt x="592" y="1510"/>
                </a:cubicBezTo>
                <a:cubicBezTo>
                  <a:pt x="586" y="1533"/>
                  <a:pt x="560" y="1574"/>
                  <a:pt x="560" y="1574"/>
                </a:cubicBezTo>
                <a:cubicBezTo>
                  <a:pt x="568" y="1613"/>
                  <a:pt x="578" y="1637"/>
                  <a:pt x="600" y="1670"/>
                </a:cubicBezTo>
                <a:cubicBezTo>
                  <a:pt x="593" y="1723"/>
                  <a:pt x="578" y="1770"/>
                  <a:pt x="568" y="1822"/>
                </a:cubicBezTo>
                <a:cubicBezTo>
                  <a:pt x="567" y="1835"/>
                  <a:pt x="564" y="1913"/>
                  <a:pt x="552" y="1942"/>
                </a:cubicBezTo>
                <a:cubicBezTo>
                  <a:pt x="525" y="2006"/>
                  <a:pt x="545" y="1928"/>
                  <a:pt x="528" y="1990"/>
                </a:cubicBezTo>
                <a:cubicBezTo>
                  <a:pt x="518" y="2027"/>
                  <a:pt x="513" y="2067"/>
                  <a:pt x="496" y="2102"/>
                </a:cubicBezTo>
              </a:path>
            </a:pathLst>
          </a:custGeom>
          <a:solidFill>
            <a:srgbClr val="ccffff"/>
          </a:solidFill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3" name="Line 6"/>
          <p:cNvSpPr/>
          <p:nvPr/>
        </p:nvSpPr>
        <p:spPr>
          <a:xfrm flipV="1">
            <a:off x="1143000" y="1600200"/>
            <a:ext cx="0" cy="3657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4" name="Line 7"/>
          <p:cNvSpPr/>
          <p:nvPr/>
        </p:nvSpPr>
        <p:spPr>
          <a:xfrm>
            <a:off x="1143000" y="5257800"/>
            <a:ext cx="7391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5" name="Line 8"/>
          <p:cNvSpPr/>
          <p:nvPr/>
        </p:nvSpPr>
        <p:spPr>
          <a:xfrm>
            <a:off x="990720" y="16002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6" name="Line 9"/>
          <p:cNvSpPr/>
          <p:nvPr/>
        </p:nvSpPr>
        <p:spPr>
          <a:xfrm>
            <a:off x="990720" y="28195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7" name="Line 10"/>
          <p:cNvSpPr/>
          <p:nvPr/>
        </p:nvSpPr>
        <p:spPr>
          <a:xfrm>
            <a:off x="990720" y="40384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8" name="Text Box 11"/>
          <p:cNvSpPr/>
          <p:nvPr/>
        </p:nvSpPr>
        <p:spPr>
          <a:xfrm>
            <a:off x="458640" y="12952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ＭＳ Ｐゴシック"/>
              </a:rPr>
              <a:t>1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9" name="Text Box 12"/>
          <p:cNvSpPr/>
          <p:nvPr/>
        </p:nvSpPr>
        <p:spPr>
          <a:xfrm>
            <a:off x="458640" y="25909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ＭＳ Ｐゴシック"/>
              </a:rPr>
              <a:t>1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0" name="Text Box 13"/>
          <p:cNvSpPr/>
          <p:nvPr/>
        </p:nvSpPr>
        <p:spPr>
          <a:xfrm>
            <a:off x="459000" y="380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ＭＳ Ｐゴシック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1" name="Text Box 14"/>
          <p:cNvSpPr/>
          <p:nvPr/>
        </p:nvSpPr>
        <p:spPr>
          <a:xfrm>
            <a:off x="916200" y="5257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ＭＳ Ｐゴシック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2" name="Text Box 15"/>
          <p:cNvSpPr/>
          <p:nvPr/>
        </p:nvSpPr>
        <p:spPr>
          <a:xfrm>
            <a:off x="4649760" y="53341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ＭＳ Ｐゴシック"/>
              </a:rPr>
              <a:t>5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3" name="Text Box 16"/>
          <p:cNvSpPr/>
          <p:nvPr/>
        </p:nvSpPr>
        <p:spPr>
          <a:xfrm>
            <a:off x="8078760" y="533412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ＭＳ Ｐゴシック"/>
              </a:rPr>
              <a:t>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4" name="AutoShape 17"/>
          <p:cNvSpPr/>
          <p:nvPr/>
        </p:nvSpPr>
        <p:spPr>
          <a:xfrm rot="6436800">
            <a:off x="1749960" y="3551760"/>
            <a:ext cx="2286000" cy="303120"/>
          </a:xfrm>
          <a:prstGeom prst="leftArrow">
            <a:avLst>
              <a:gd name="adj1" fmla="val 50000"/>
              <a:gd name="adj2" fmla="val 188539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5" name="AutoShape 18"/>
          <p:cNvSpPr/>
          <p:nvPr/>
        </p:nvSpPr>
        <p:spPr>
          <a:xfrm rot="10800000">
            <a:off x="4800600" y="2057400"/>
            <a:ext cx="2286000" cy="303120"/>
          </a:xfrm>
          <a:prstGeom prst="leftArrow">
            <a:avLst>
              <a:gd name="adj1" fmla="val 50000"/>
              <a:gd name="adj2" fmla="val 188539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6" name="AutoShape 19"/>
          <p:cNvSpPr/>
          <p:nvPr/>
        </p:nvSpPr>
        <p:spPr>
          <a:xfrm rot="16200000">
            <a:off x="1257120" y="2857320"/>
            <a:ext cx="609840" cy="228600"/>
          </a:xfrm>
          <a:prstGeom prst="leftArrow">
            <a:avLst>
              <a:gd name="adj1" fmla="val 50000"/>
              <a:gd name="adj2" fmla="val 4001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7" name="AutoShape 20"/>
          <p:cNvSpPr/>
          <p:nvPr/>
        </p:nvSpPr>
        <p:spPr>
          <a:xfrm>
            <a:off x="1752480" y="1676520"/>
            <a:ext cx="648000" cy="228600"/>
          </a:xfrm>
          <a:prstGeom prst="leftArrow">
            <a:avLst>
              <a:gd name="adj1" fmla="val 50000"/>
              <a:gd name="adj2" fmla="val 47244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8" name="Text Box 21"/>
          <p:cNvSpPr/>
          <p:nvPr/>
        </p:nvSpPr>
        <p:spPr>
          <a:xfrm>
            <a:off x="6097320" y="5334120"/>
            <a:ext cx="96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Times New Roman"/>
                <a:ea typeface="ＭＳ Ｐゴシック"/>
              </a:rPr>
              <a:t>r   k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9" name="Text Box 22"/>
          <p:cNvSpPr/>
          <p:nvPr/>
        </p:nvSpPr>
        <p:spPr>
          <a:xfrm rot="16200000">
            <a:off x="-25560" y="3151080"/>
            <a:ext cx="96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Times New Roman"/>
                <a:ea typeface="ＭＳ Ｐゴシック"/>
              </a:rPr>
              <a:t>z   k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0" name="Line 23"/>
          <p:cNvSpPr/>
          <p:nvPr/>
        </p:nvSpPr>
        <p:spPr>
          <a:xfrm>
            <a:off x="3048120" y="4952880"/>
            <a:ext cx="53337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1" name="Text Box 24"/>
          <p:cNvSpPr/>
          <p:nvPr/>
        </p:nvSpPr>
        <p:spPr>
          <a:xfrm>
            <a:off x="685800" y="380880"/>
            <a:ext cx="784872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ＭＳ Ｐゴシック"/>
              </a:rPr>
              <a:t>Revised view of intensification: two mechanis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2" name="Text Box 25"/>
          <p:cNvSpPr/>
          <p:nvPr/>
        </p:nvSpPr>
        <p:spPr>
          <a:xfrm>
            <a:off x="5335200" y="4114800"/>
            <a:ext cx="183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M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ＭＳ Ｐゴシック"/>
              </a:rPr>
              <a:t> conserv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683" name="Object 2"/>
          <p:cNvGraphicFramePr/>
          <p:nvPr/>
        </p:nvGraphicFramePr>
        <p:xfrm>
          <a:off x="5334120" y="3048120"/>
          <a:ext cx="1752480" cy="861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8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4120" y="3048120"/>
                    <a:ext cx="1752480" cy="861840"/>
                  </a:xfrm>
                  <a:prstGeom prst="rect">
                    <a:avLst/>
                  </a:prstGeom>
                  <a:ln w="28440">
                    <a:solidFill>
                      <a:srgbClr val="3333cc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685" name="Line 27"/>
          <p:cNvSpPr/>
          <p:nvPr/>
        </p:nvSpPr>
        <p:spPr>
          <a:xfrm flipV="1">
            <a:off x="2666880" y="5105520"/>
            <a:ext cx="76212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6" name="Text Box 28"/>
          <p:cNvSpPr/>
          <p:nvPr/>
        </p:nvSpPr>
        <p:spPr>
          <a:xfrm>
            <a:off x="601920" y="6095880"/>
            <a:ext cx="792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M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009900"/>
                </a:solidFill>
                <a:latin typeface="Times New Roman"/>
                <a:ea typeface="ＭＳ Ｐゴシック"/>
              </a:rPr>
              <a:t>reduced by friction, but strong convergence </a:t>
            </a:r>
            <a:r>
              <a:rPr b="1" lang="en-US" sz="2400" spc="-1" strike="noStrike">
                <a:solidFill>
                  <a:srgbClr val="009900"/>
                </a:solidFill>
                <a:latin typeface="Wingdings 3"/>
                <a:ea typeface="Wingdings 3"/>
              </a:rPr>
              <a:t>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ＭＳ Ｐゴシック"/>
              </a:rPr>
              <a:t> small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r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ＭＳ Ｐゴシック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ＭＳ Ｐゴシック"/>
              </a:rPr>
              <a:t>             </a:t>
            </a:r>
            <a:r>
              <a:rPr b="1" lang="en-US" sz="1400" spc="-1" strike="noStrike">
                <a:solidFill>
                  <a:srgbClr val="3333cc"/>
                </a:solidFill>
                <a:latin typeface="Times New Roman"/>
                <a:ea typeface="ＭＳ Ｐゴシック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(for details, see review paper by Montgomery and Smith (2013 AMOJ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7" name="Object 28"/>
              <p:cNvSpPr txBox="1"/>
              <p:nvPr/>
            </p:nvSpPr>
            <p:spPr>
              <a:xfrm>
                <a:off x="7315200" y="1219320"/>
                <a:ext cx="16714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V</m:t>
                    </m:r>
                    <m:r>
                      <m:t xml:space="preserve">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f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/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88" name="TextBox 1"/>
          <p:cNvSpPr/>
          <p:nvPr/>
        </p:nvSpPr>
        <p:spPr>
          <a:xfrm>
            <a:off x="4191120" y="120024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bsolute angular moment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9" name="Picture 2" descr=""/>
          <p:cNvPicPr/>
          <p:nvPr/>
        </p:nvPicPr>
        <p:blipFill>
          <a:blip r:embed="rId1"/>
          <a:stretch/>
        </p:blipFill>
        <p:spPr>
          <a:xfrm>
            <a:off x="520560" y="60480"/>
            <a:ext cx="7937640" cy="6721200"/>
          </a:xfrm>
          <a:prstGeom prst="rect">
            <a:avLst/>
          </a:prstGeom>
          <a:ln w="0">
            <a:noFill/>
          </a:ln>
        </p:spPr>
      </p:pic>
      <p:sp>
        <p:nvSpPr>
          <p:cNvPr id="1690" name="TextBox 3"/>
          <p:cNvSpPr/>
          <p:nvPr/>
        </p:nvSpPr>
        <p:spPr>
          <a:xfrm>
            <a:off x="7321680" y="6396120"/>
            <a:ext cx="132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in revie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Times New Roman"/>
            </a:endParaRPr>
          </a:p>
        </p:txBody>
      </p:sp>
      <p:pic>
        <p:nvPicPr>
          <p:cNvPr id="1693" name="Picture 3" descr=""/>
          <p:cNvPicPr/>
          <p:nvPr/>
        </p:nvPicPr>
        <p:blipFill>
          <a:blip r:embed="rId1"/>
          <a:stretch/>
        </p:blipFill>
        <p:spPr>
          <a:xfrm>
            <a:off x="0" y="1181160"/>
            <a:ext cx="9144000" cy="44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7A3CF-84F1-42E0-8CDC-1C860C91697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95" name="Picture 6" descr=""/>
          <p:cNvPicPr/>
          <p:nvPr/>
        </p:nvPicPr>
        <p:blipFill>
          <a:blip r:embed="rId1"/>
          <a:stretch/>
        </p:blipFill>
        <p:spPr>
          <a:xfrm>
            <a:off x="685800" y="762120"/>
            <a:ext cx="6705720" cy="5979960"/>
          </a:xfrm>
          <a:prstGeom prst="rect">
            <a:avLst/>
          </a:prstGeom>
          <a:ln w="0">
            <a:noFill/>
          </a:ln>
        </p:spPr>
      </p:pic>
      <p:sp>
        <p:nvSpPr>
          <p:cNvPr id="1696" name="TextBox 7"/>
          <p:cNvSpPr/>
          <p:nvPr/>
        </p:nvSpPr>
        <p:spPr>
          <a:xfrm>
            <a:off x="533520" y="0"/>
            <a:ext cx="7010280" cy="825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Lower fuselage radar coverage straddling periods 1 &amp; 2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(22 Z 28 Aug – 12 Z 30 Aug; rapid spin up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7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5867280" cy="762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dropsonde data spatial coverage during four 12 h analysis periods (1-4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r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8" name="Rectangle 7"/>
          <p:cNvSpPr/>
          <p:nvPr/>
        </p:nvSpPr>
        <p:spPr>
          <a:xfrm>
            <a:off x="7543800" y="2362320"/>
            <a:ext cx="1752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Blue, P-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Red, DC-8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b050"/>
                </a:solidFill>
                <a:latin typeface="Times New Roman"/>
              </a:rPr>
              <a:t>Green, C-130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lack, G-IV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99" name="Picture 2" descr=""/>
          <p:cNvPicPr/>
          <p:nvPr/>
        </p:nvPicPr>
        <p:blipFill>
          <a:blip r:embed="rId1"/>
          <a:stretch/>
        </p:blipFill>
        <p:spPr>
          <a:xfrm>
            <a:off x="-11160" y="838080"/>
            <a:ext cx="762804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0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040F9-3D35-47D2-86E7-F2B5FA1B4CE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01" name="Picture 4" descr=""/>
          <p:cNvPicPr/>
          <p:nvPr/>
        </p:nvPicPr>
        <p:blipFill>
          <a:blip r:embed="rId1"/>
          <a:stretch/>
        </p:blipFill>
        <p:spPr>
          <a:xfrm>
            <a:off x="762120" y="395280"/>
            <a:ext cx="8091360" cy="6462720"/>
          </a:xfrm>
          <a:prstGeom prst="rect">
            <a:avLst/>
          </a:prstGeom>
          <a:ln w="0">
            <a:noFill/>
          </a:ln>
        </p:spPr>
      </p:pic>
      <p:sp>
        <p:nvSpPr>
          <p:cNvPr id="1702" name="TextBox 5"/>
          <p:cNvSpPr/>
          <p:nvPr/>
        </p:nvSpPr>
        <p:spPr>
          <a:xfrm>
            <a:off x="762120" y="0"/>
            <a:ext cx="807696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Observed evolution of absolute angular momentum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3" name="Object 6"/>
              <p:cNvSpPr txBox="1"/>
              <p:nvPr/>
            </p:nvSpPr>
            <p:spPr>
              <a:xfrm>
                <a:off x="4514760" y="3346560"/>
                <a:ext cx="114480" cy="16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V</m:t>
                    </m:r>
                    <m:r>
                      <m:t xml:space="preserve">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f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/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4" name="Object 7"/>
              <p:cNvSpPr txBox="1"/>
              <p:nvPr/>
            </p:nvSpPr>
            <p:spPr>
              <a:xfrm>
                <a:off x="7162920" y="76320"/>
                <a:ext cx="16714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V</m:t>
                    </m:r>
                    <m:r>
                      <m:t xml:space="preserve">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f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/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5T06:47:00Z</dcterms:created>
  <dc:creator>x</dc:creator>
  <dc:description/>
  <cp:keywords/>
  <dc:language>en-US</dc:language>
  <cp:lastModifiedBy>Michael T. Montgomery</cp:lastModifiedBy>
  <dcterms:modified xsi:type="dcterms:W3CDTF">2013-05-08T08:14:24Z</dcterms:modified>
  <cp:revision>188</cp:revision>
  <dc:subject/>
  <dc:title>PowerPoint Presentation</dc:title>
</cp:coreProperties>
</file>